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BF5-5487-4A9E-9A94-25C1B78D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5AC-A509-40F2-9070-D6D1EC79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C4B-6C40-4B90-9827-E66091DA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782-0AA1-41C6-839C-C497738E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A756-6473-4A02-A422-055063CE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BAF1-C62C-4D37-84D7-3B3B00ED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0F7A-858E-4F96-926D-272FC9CC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F9F3-84E6-48EE-BE92-688912F7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3E74-D84B-4592-ABE0-FAD624BD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4317-7702-42F2-A0CA-1045AA08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FE9C-D8BD-4238-AAF3-68115A1B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47B-7E73-4DF0-9E1B-35C18D2B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8AF9-208C-413E-A450-D8065F6E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39F3-0722-4F7A-839D-C92CCCF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9635-2280-41D4-BBC8-E48A09BF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4C33-E2EB-4457-94EA-967A3F2F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4F44-1F47-4D9F-B062-BE117424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31B-4EE7-4309-B105-F5F78E6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FCE-4DE6-4C37-AADE-1C0A4212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E1C-37C4-41AC-965F-0BB66867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132-8105-4DFD-96BB-E2147C5F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831-B7D5-4842-8540-E796463A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D96-0E82-425E-9A69-58227E48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A5B-3026-4A59-8CAE-FE6F4098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C72D-4261-45C7-A08C-CE8D912968CC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4633-C6B2-4D29-9A6D-DA1E4ED736E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byforge.org/projects/rubygems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hyperlink" Target="http://poignantguide.net/ruby/chapter-2.html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poignantguide.net/ruby/chapter-2.html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rubygarden.org/" TargetMode="External"/><Relationship Id="rId3" Type="http://schemas.openxmlformats.org/officeDocument/2006/relationships/hyperlink" Target="http://www.rubygarden.org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hyperlink" Target="http://www.ruby-doc.org/core/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hyperlink" Target="http://www.ruby-doc.org/stdlib/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hyperlink" Target="http://poignantguide.net/ruby/chapter-2.html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Discovering Ruby</a:t>
            </a: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383ad"/>
                </a:solidFill>
                <a:latin typeface="Arial"/>
              </a:rPr>
              <a:t>Welcome to Barcamp Ireland!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1" name="ruby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09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176"/>
                </a:solidFill>
                <a:latin typeface="Arial"/>
              </a:rPr>
              <a:t>http://pub.cozmixng.org/~the-rwiki/?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Useful due to lots of example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Unfortunately in japanes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Unfortunately some of the code is out of dat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Still probally one of the best ruby-tk reference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8" name="ruby_tk" descr=""/>
          <p:cNvPicPr/>
          <p:nvPr/>
        </p:nvPicPr>
        <p:blipFill>
          <a:blip r:embed="rId5"/>
          <a:stretch/>
        </p:blipFill>
        <p:spPr>
          <a:xfrm>
            <a:off x="4648320" y="2616120"/>
            <a:ext cx="38098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me simple ruby-tk code.</a:t>
            </a:r>
            <a:br>
              <a:rPr sz="4400"/>
            </a:b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Button packing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require "tk"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Label.new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{ text "Top" pack('side' =&gt; 'top') }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Label.new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{ text "Middle" pack('side' =&gt; 'top') }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Label.new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{ text "Bottom" pack('side' =&gt; 'top') }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.mainloop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Ruby and Mysql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So you need a databas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For mysql you have two modules to choose from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Confused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Thought this was newbie-friendl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Well </a:t>
            </a:r>
            <a:r>
              <a:rPr b="1" lang="en-IE" sz="2400" spc="-1" strike="noStrike">
                <a:solidFill>
                  <a:srgbClr val="8383ad"/>
                </a:solidFill>
                <a:latin typeface="Arial"/>
              </a:rPr>
              <a:t>Ruby gems</a:t>
            </a: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 will help you install whichever one you pick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3" name="mysqlmodules" descr=""/>
          <p:cNvPicPr/>
          <p:nvPr/>
        </p:nvPicPr>
        <p:blipFill>
          <a:blip r:embed="rId6"/>
          <a:stretch/>
        </p:blipFill>
        <p:spPr>
          <a:xfrm>
            <a:off x="4419720" y="2133720"/>
            <a:ext cx="4343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Ruby Gem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http://rubyforge.org/projects/rubygems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gems helps you install add-ons to rub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It tries to make life easier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However you will have to reinstall your gems every time you upgrade rub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6" name="rubygems" descr=""/>
          <p:cNvPicPr/>
          <p:nvPr/>
        </p:nvPicPr>
        <p:blipFill>
          <a:blip r:embed="rId6"/>
          <a:stretch/>
        </p:blipFill>
        <p:spPr>
          <a:xfrm>
            <a:off x="4648320" y="2781360"/>
            <a:ext cx="380988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404176"/>
                </a:solidFill>
                <a:latin typeface="Arial"/>
              </a:rPr>
              <a:t>Mysql ruby test code from Kitebird. </a:t>
            </a:r>
            <a:br>
              <a:rPr sz="3600"/>
            </a:b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You will know this test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87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383ad"/>
                </a:solidFill>
                <a:latin typeface="Arial"/>
              </a:rPr>
              <a:t>Simple.rb</a:t>
            </a: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87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require “mysql”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87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 </a:t>
            </a: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begin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#this example is used for checking if your installation is correct.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# connect to the MySQL server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dbh = Mysql.real_connect(”localhost”, “testuser”, “testpass”, “test”)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# get server version string and display it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puts “Server version: ” + dbh.get_server_info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 rescue MysqlError =&gt; e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print “Error code: “, e.errno, “\n”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print “Error message: “, e.error, “\n”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 ensure</a:t>
            </a:r>
            <a:br>
              <a:rPr sz="1400"/>
            </a:b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     </a:t>
            </a:r>
            <a:r>
              <a:rPr b="0" lang="en-GB" sz="1200" spc="-1" strike="noStrike">
                <a:solidFill>
                  <a:srgbClr val="8383ad"/>
                </a:solidFill>
                <a:latin typeface="Arial"/>
              </a:rPr>
              <a:t>  # disconnect from server</a:t>
            </a:r>
            <a:br>
              <a:rPr sz="1200"/>
            </a:br>
            <a:r>
              <a:rPr b="0" lang="en-GB" sz="1200" spc="-1" strike="noStrike">
                <a:solidFill>
                  <a:srgbClr val="8383ad"/>
                </a:solidFill>
                <a:latin typeface="Arial"/>
              </a:rPr>
              <a:t>       dbh.close</a:t>
            </a:r>
            <a:br>
              <a:rPr sz="1200"/>
            </a:br>
            <a:r>
              <a:rPr b="0" lang="en-GB" sz="1200" spc="-1" strike="noStrike">
                <a:solidFill>
                  <a:srgbClr val="8383ad"/>
                </a:solidFill>
                <a:latin typeface="Arial"/>
              </a:rPr>
              <a:t>   end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you have the mea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You have your database, ruby can connect to the database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You have picked your gui method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You think you can make one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What now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1" name="why" descr=""/>
          <p:cNvPicPr/>
          <p:nvPr/>
        </p:nvPicPr>
        <p:blipFill>
          <a:blip r:embed="rId5"/>
          <a:stretch/>
        </p:blipFill>
        <p:spPr>
          <a:xfrm>
            <a:off x="4648320" y="2328840"/>
            <a:ext cx="3809880" cy="3419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4952880" y="56386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http://poignantguide.net/ruby/chapter-2.html</a:t>
            </a:r>
            <a:r>
              <a:rPr b="0" lang="en-IE" sz="1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8c00"/>
                </a:solidFill>
                <a:latin typeface="Verdana"/>
              </a:rPr>
              <a:t>hook C:/ruby/rubygems-0.9.0/ ./post-install.rb failed:</a:t>
            </a:r>
            <a:br>
              <a:rPr sz="3200"/>
            </a:br>
            <a:r>
              <a:rPr b="0" lang="en-GB" sz="3200" spc="-1" strike="noStrike">
                <a:solidFill>
                  <a:srgbClr val="ff8c00"/>
                </a:solidFill>
                <a:latin typeface="Verdana"/>
              </a:rPr>
              <a:t>undefined method 'post_install_message' for #&lt;Gem::Specification:0X3337fa8&gt;</a:t>
            </a:r>
            <a:br>
              <a:rPr sz="3200"/>
            </a:br>
            <a:r>
              <a:rPr b="0" lang="en-GB" sz="3200" spc="-1" strike="noStrike">
                <a:solidFill>
                  <a:srgbClr val="ff8c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Error messages!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I’m going to talk through my early days with rub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I’m trying to build a ruby applications so what I know is based off that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ut I’m not with ruby that long either so if I look blankly at you, prompt me about where to ask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what are you talking about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4" name="why1" descr=""/>
          <p:cNvPicPr/>
          <p:nvPr/>
        </p:nvPicPr>
        <p:blipFill>
          <a:blip r:embed="rId4"/>
          <a:stretch/>
        </p:blipFill>
        <p:spPr>
          <a:xfrm>
            <a:off x="5105520" y="2133720"/>
            <a:ext cx="3429000" cy="3085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334120" y="54100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http://poignantguide.net/ruby/chapter-2.html</a:t>
            </a:r>
            <a:r>
              <a:rPr b="0" lang="en-IE" sz="1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where do you go to first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18960" y="54097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http://tryruby.hobix.com/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8" name="tryruby" descr=""/>
          <p:cNvPicPr/>
          <p:nvPr/>
        </p:nvPicPr>
        <p:blipFill>
          <a:blip r:embed="rId1"/>
          <a:stretch/>
        </p:blipFill>
        <p:spPr>
          <a:xfrm>
            <a:off x="2665440" y="2070000"/>
            <a:ext cx="38116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Whats the coolest thing you learn there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90" name="maths" descr=""/>
          <p:cNvPicPr/>
          <p:nvPr/>
        </p:nvPicPr>
        <p:blipFill>
          <a:blip r:embed="rId1"/>
          <a:stretch/>
        </p:blipFill>
        <p:spPr>
          <a:xfrm>
            <a:off x="914400" y="2211480"/>
            <a:ext cx="7543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ww.ruby-lang.org/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The recently redesigned ruby homepag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Good for downloading ruby, updates, finding links and the ruby reference librar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ad for finding unusual but good ruby source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ad for finding simple ruby example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3" name="rubyhome" descr=""/>
          <p:cNvPicPr/>
          <p:nvPr/>
        </p:nvPicPr>
        <p:blipFill>
          <a:blip r:embed="rId5"/>
          <a:stretch/>
        </p:blipFill>
        <p:spPr>
          <a:xfrm>
            <a:off x="4648320" y="2692440"/>
            <a:ext cx="38098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Other Resources to look at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Garden.</a:t>
            </a:r>
            <a:r>
              <a:rPr b="1" lang="en-IE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www</a:t>
            </a: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3"/>
              </a:rPr>
              <a:t>.rubygarden.org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core librar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www.ruby-doc.org/core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standard librar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www.ruby-doc.org/stdlib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6" name="standardlib" descr=""/>
          <p:cNvPicPr/>
          <p:nvPr/>
        </p:nvPicPr>
        <p:blipFill>
          <a:blip r:embed="rId10"/>
          <a:stretch/>
        </p:blipFill>
        <p:spPr>
          <a:xfrm>
            <a:off x="4648320" y="2679840"/>
            <a:ext cx="38098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Ruby User guide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Again we are looking at the very basic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No ties to the standard library. So you cant see a follow through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Hard to tell without running the code if the code is up to dat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Out of date code is a big problem when you are error checking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9" name="rubyuser" descr=""/>
          <p:cNvPicPr/>
          <p:nvPr/>
        </p:nvPicPr>
        <p:blipFill>
          <a:blip r:embed="rId5"/>
          <a:stretch/>
        </p:blipFill>
        <p:spPr>
          <a:xfrm>
            <a:off x="4648320" y="2603520"/>
            <a:ext cx="3809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you want to make a ruby application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So how can you?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Besides using ruby-on-rails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Pikeaxe says ruby-tk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So that’s what I went with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However Ruby-tk is poorly documented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QT is considered better documented and prettier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QT Verses Ruby-T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And don’t you partly use ruby for the prettines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So finding out ruby-tk is not pretty is upsetting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QT is </a:t>
            </a: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dual licensed</a:t>
            </a: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. A commerical license and a GPL.</a:t>
            </a: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ut I went with Ruby-tk so I cant help you with QT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4" name="helloruby" descr=""/>
          <p:cNvPicPr/>
          <p:nvPr/>
        </p:nvPicPr>
        <p:blipFill>
          <a:blip r:embed="rId5"/>
          <a:stretch/>
        </p:blipFill>
        <p:spPr>
          <a:xfrm>
            <a:off x="5105520" y="2209680"/>
            <a:ext cx="3811320" cy="2552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486400" y="4876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http://poignantguide.net/ruby/chapter-2.html</a:t>
            </a:r>
            <a:r>
              <a:rPr b="0" lang="en-IE" sz="1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5:01:45Z</dcterms:created>
  <dc:creator>user</dc:creator>
  <dc:description/>
  <dc:language>en-US</dc:language>
  <cp:lastModifiedBy>user</cp:lastModifiedBy>
  <dcterms:modified xsi:type="dcterms:W3CDTF">2006-09-29T17:00:31Z</dcterms:modified>
  <cp:revision>18</cp:revision>
  <dc:subject/>
  <dc:title>Discovering Ruby.</dc:title>
</cp:coreProperties>
</file>