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C68-B361-4CD9-875A-784EA602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5F5-4CDF-4471-8B8B-624A5B5B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4E87-EB84-46EE-9DD0-5CDBE1BA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DE6-9227-4721-9BF2-DB306B7F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DF9A-B877-453D-9C64-1233D651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D2AB-642A-4363-8A33-15655CE6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34D5-40DE-4C23-A0A9-DB778BCB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2DE3-31F5-4603-BB1E-E177CB00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BCA2-59D8-4126-B5F2-3686BFA5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4473-30A6-4DEE-B999-F21EB4D3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3909-4C97-47AF-8B7F-F279ED18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34D-4B35-4592-879A-59D29076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76DF-5D80-4197-8C71-7306DD51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E848-22E3-46C1-87BA-F188C6A4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E5B3-BFA2-4C75-9445-C2F18A3D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4CB1-4A92-4E5E-B224-10B3AF6F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8A16-AC5B-4D7C-A259-B373DA5B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468-2210-4932-8CDE-C988FA57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F48-49BA-4BAD-915F-A1E7D772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41D7-1B94-4402-825B-1556188E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597-4304-4743-AA96-8A97A065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43C-52CA-4A3F-BBCC-B637BD3F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DB0-ED82-414A-A520-50A3E895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308-6668-4318-9BFB-88BCEFAB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A7A2-0C3F-4DA4-AD18-18E988AFBF40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B975-66AE-4490-8CF4-573A691CC9F6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byforge.org/projects/rubygems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hyperlink" Target="http://poignantguide.net/ruby/chapter-2.html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poignantguide.net/ruby/chapter-2.html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rubygarden.org/" TargetMode="External"/><Relationship Id="rId3" Type="http://schemas.openxmlformats.org/officeDocument/2006/relationships/hyperlink" Target="http://www.rubygarden.org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hyperlink" Target="http://www.ruby-doc.org/core/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hyperlink" Target="http://www.ruby-doc.org/stdlib/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hyperlink" Target="http://poignantguide.net/ruby/chapter-2.html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Discovering Ruby</a:t>
            </a: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383ad"/>
                </a:solidFill>
                <a:latin typeface="Arial"/>
              </a:rPr>
              <a:t>Welcome to Barcamp Ireland!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1" name="ruby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096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176"/>
                </a:solidFill>
                <a:latin typeface="Arial"/>
              </a:rPr>
              <a:t>http://pub.cozmixng.org/~the-rwiki/?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Useful due to lots of examples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Unfortunately in japanes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Unfortunately some of the code is out of dat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Still probally one of the best ruby-tk reference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8" name="ruby_tk" descr=""/>
          <p:cNvPicPr/>
          <p:nvPr/>
        </p:nvPicPr>
        <p:blipFill>
          <a:blip r:embed="rId5"/>
          <a:stretch/>
        </p:blipFill>
        <p:spPr>
          <a:xfrm>
            <a:off x="4648320" y="2616120"/>
            <a:ext cx="38098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Some simple ruby-tk code.</a:t>
            </a:r>
            <a:br>
              <a:rPr sz="4400"/>
            </a:b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Button packing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require "tk"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kLabel.new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{ text "Top" pack('side' =&gt; 'top') }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kLabel.new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{ text "Middle" pack('side' =&gt; 'top') }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kLabel.new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{ text "Bottom" pack('side' =&gt; 'top') }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k.mainloop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Ruby and Mysql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So you need a databas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For mysql you have two modules to choose from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Confused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Thought this was newbie-friendly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Well </a:t>
            </a:r>
            <a:r>
              <a:rPr b="1" lang="en-IE" sz="2400" spc="-1" strike="noStrike">
                <a:solidFill>
                  <a:srgbClr val="8383ad"/>
                </a:solidFill>
                <a:latin typeface="Arial"/>
              </a:rPr>
              <a:t>Ruby gems</a:t>
            </a: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 will help you install whichever one you pick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3" name="mysqlmodules" descr=""/>
          <p:cNvPicPr/>
          <p:nvPr/>
        </p:nvPicPr>
        <p:blipFill>
          <a:blip r:embed="rId6"/>
          <a:stretch/>
        </p:blipFill>
        <p:spPr>
          <a:xfrm>
            <a:off x="4419720" y="2133720"/>
            <a:ext cx="4343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Ruby Gem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http://rubyforge.org/projects/rubygems/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Ruby gems helps you install add-ons to ruby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It tries to make life easier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However you will have to reinstall your gems every time you upgrade ruby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6" name="rubygems" descr=""/>
          <p:cNvPicPr/>
          <p:nvPr/>
        </p:nvPicPr>
        <p:blipFill>
          <a:blip r:embed="rId6"/>
          <a:stretch/>
        </p:blipFill>
        <p:spPr>
          <a:xfrm>
            <a:off x="4648320" y="2781360"/>
            <a:ext cx="380988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404176"/>
                </a:solidFill>
                <a:latin typeface="Arial"/>
              </a:rPr>
              <a:t>Mysql ruby test code from Kitebird. </a:t>
            </a:r>
            <a:br>
              <a:rPr sz="3600"/>
            </a:b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You will know this test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87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383ad"/>
                </a:solidFill>
                <a:latin typeface="Arial"/>
              </a:rPr>
              <a:t>Simple.rb</a:t>
            </a: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187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require “mysql”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87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 </a:t>
            </a: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begin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#this example is used for checking if your installation is correct.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# connect to the MySQL server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dbh = Mysql.real_connect(”localhost”, “testuser”, “testpass”, “test”)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# get server version string and display it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puts “Server version: ” + dbh.get_server_info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 rescue MysqlError =&gt; e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print “Error code: “, e.errno, “\n”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print “Error message: “, e.error, “\n”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 ensure</a:t>
            </a:r>
            <a:br>
              <a:rPr sz="1400"/>
            </a:b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     </a:t>
            </a:r>
            <a:r>
              <a:rPr b="0" lang="en-GB" sz="1200" spc="-1" strike="noStrike">
                <a:solidFill>
                  <a:srgbClr val="8383ad"/>
                </a:solidFill>
                <a:latin typeface="Arial"/>
              </a:rPr>
              <a:t>  # disconnect from server</a:t>
            </a:r>
            <a:br>
              <a:rPr sz="1200"/>
            </a:br>
            <a:r>
              <a:rPr b="0" lang="en-GB" sz="1200" spc="-1" strike="noStrike">
                <a:solidFill>
                  <a:srgbClr val="8383ad"/>
                </a:solidFill>
                <a:latin typeface="Arial"/>
              </a:rPr>
              <a:t>       dbh.close</a:t>
            </a:r>
            <a:br>
              <a:rPr sz="1200"/>
            </a:br>
            <a:r>
              <a:rPr b="0" lang="en-GB" sz="1200" spc="-1" strike="noStrike">
                <a:solidFill>
                  <a:srgbClr val="8383ad"/>
                </a:solidFill>
                <a:latin typeface="Arial"/>
              </a:rPr>
              <a:t>   end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So you have the mea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You have your database, ruby can connect to the database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You have picked your gui method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You think you can make one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What now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1" name="why" descr=""/>
          <p:cNvPicPr/>
          <p:nvPr/>
        </p:nvPicPr>
        <p:blipFill>
          <a:blip r:embed="rId5"/>
          <a:stretch/>
        </p:blipFill>
        <p:spPr>
          <a:xfrm>
            <a:off x="4648320" y="2328840"/>
            <a:ext cx="3809880" cy="34196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4952880" y="56386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http://poignantguide.net/ruby/chapter-2.html</a:t>
            </a:r>
            <a:r>
              <a:rPr b="0" lang="en-IE" sz="1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Any questions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8c00"/>
                </a:solidFill>
                <a:latin typeface="Verdana"/>
              </a:rPr>
              <a:t>hook C:/ruby/rubygems-0.9.0/ ./post-install.rb failed:</a:t>
            </a:r>
            <a:br>
              <a:rPr sz="3200"/>
            </a:br>
            <a:r>
              <a:rPr b="0" lang="en-GB" sz="3200" spc="-1" strike="noStrike">
                <a:solidFill>
                  <a:srgbClr val="ff8c00"/>
                </a:solidFill>
                <a:latin typeface="Verdana"/>
              </a:rPr>
              <a:t>undefined method 'post_install_message' for #&lt;Gem::Specification:0X3337fa8&gt;</a:t>
            </a:r>
            <a:br>
              <a:rPr sz="3200"/>
            </a:br>
            <a:r>
              <a:rPr b="0" lang="en-GB" sz="3200" spc="-1" strike="noStrike">
                <a:solidFill>
                  <a:srgbClr val="ff8c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Error messages!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I’m going to talk through my early days with ruby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I’m trying to build a ruby applications so what I know is based off that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But I’m not with ruby that long either so if I look blankly at you, prompt me about where to ask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So what are you talking about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84" name="why1" descr=""/>
          <p:cNvPicPr/>
          <p:nvPr/>
        </p:nvPicPr>
        <p:blipFill>
          <a:blip r:embed="rId4"/>
          <a:stretch/>
        </p:blipFill>
        <p:spPr>
          <a:xfrm>
            <a:off x="5105520" y="2133720"/>
            <a:ext cx="3429000" cy="30859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5334120" y="54100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c09e4a"/>
                </a:solidFill>
                <a:uFillTx/>
                <a:latin typeface="Arial"/>
                <a:hlinkClick r:id="rId5"/>
              </a:rPr>
              <a:t>http://poignantguide.net/ruby/chapter-2.html</a:t>
            </a:r>
            <a:r>
              <a:rPr b="0" lang="en-IE" sz="1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So where do you go to first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18960" y="54097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http://tryruby.hobix.com/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8" name="tryruby" descr=""/>
          <p:cNvPicPr/>
          <p:nvPr/>
        </p:nvPicPr>
        <p:blipFill>
          <a:blip r:embed="rId1"/>
          <a:stretch/>
        </p:blipFill>
        <p:spPr>
          <a:xfrm>
            <a:off x="2665440" y="2070000"/>
            <a:ext cx="381168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Whats the coolest thing you learn there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90" name="maths" descr=""/>
          <p:cNvPicPr/>
          <p:nvPr/>
        </p:nvPicPr>
        <p:blipFill>
          <a:blip r:embed="rId1"/>
          <a:stretch/>
        </p:blipFill>
        <p:spPr>
          <a:xfrm>
            <a:off x="914400" y="2211480"/>
            <a:ext cx="75438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ww.ruby-lang.org/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The recently redesigned ruby homepag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Good for downloading ruby, updates, finding links and the ruby reference library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Bad for finding unusual but good ruby source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Bad for finding simple ruby example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3" name="rubyhome" descr=""/>
          <p:cNvPicPr/>
          <p:nvPr/>
        </p:nvPicPr>
        <p:blipFill>
          <a:blip r:embed="rId5"/>
          <a:stretch/>
        </p:blipFill>
        <p:spPr>
          <a:xfrm>
            <a:off x="4648320" y="2692440"/>
            <a:ext cx="380988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Other Resources to look at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Ruby Garden.</a:t>
            </a:r>
            <a:r>
              <a:rPr b="1" lang="en-IE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IE" sz="24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www</a:t>
            </a:r>
            <a:r>
              <a:rPr b="0" lang="en-IE" sz="2400" spc="-1" strike="noStrike" u="sng">
                <a:solidFill>
                  <a:srgbClr val="c09e4a"/>
                </a:solidFill>
                <a:uFillTx/>
                <a:latin typeface="Arial"/>
                <a:hlinkClick r:id="rId3"/>
              </a:rPr>
              <a:t>.rubygarden.org/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Ruby core librar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www.ruby-doc.org/core/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Ruby standard librar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c09e4a"/>
                </a:solidFill>
                <a:uFillTx/>
                <a:latin typeface="Arial"/>
                <a:hlinkClick r:id="rId9"/>
              </a:rPr>
              <a:t>www.ruby-doc.org/stdlib/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6" name="standardlib" descr=""/>
          <p:cNvPicPr/>
          <p:nvPr/>
        </p:nvPicPr>
        <p:blipFill>
          <a:blip r:embed="rId10"/>
          <a:stretch/>
        </p:blipFill>
        <p:spPr>
          <a:xfrm>
            <a:off x="4648320" y="2679840"/>
            <a:ext cx="38098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Ruby User guide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Again we are looking at the very basic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No ties to the standard library. So you cant see a follow through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Hard to tell without running the code if the code is up to dat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Out of date code is a big problem when you are error checking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9" name="rubyuser" descr=""/>
          <p:cNvPicPr/>
          <p:nvPr/>
        </p:nvPicPr>
        <p:blipFill>
          <a:blip r:embed="rId5"/>
          <a:stretch/>
        </p:blipFill>
        <p:spPr>
          <a:xfrm>
            <a:off x="4648320" y="2603520"/>
            <a:ext cx="38098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So you want to make a ruby application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So how can you?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Besides using ruby-on-rails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Pikeaxe says ruby-tk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So that’s what I went with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However Ruby-tk is poorly documented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QT is considered better documented and prettier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QT Verses Ruby-T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And don’t you partly use ruby for the prettiness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So finding out ruby-tk is not pretty is upsetting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QT is </a:t>
            </a:r>
            <a:r>
              <a:rPr b="0" lang="en-GB" sz="2400" spc="-1" strike="noStrike">
                <a:solidFill>
                  <a:srgbClr val="8383ad"/>
                </a:solidFill>
                <a:latin typeface="Arial"/>
              </a:rPr>
              <a:t>dual licensed</a:t>
            </a: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. A commerical license and a GPL.</a:t>
            </a:r>
            <a:r>
              <a:rPr b="0" lang="en-GB" sz="2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But I went with Ruby-tk so I cant help you with QT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4" name="helloruby" descr=""/>
          <p:cNvPicPr/>
          <p:nvPr/>
        </p:nvPicPr>
        <p:blipFill>
          <a:blip r:embed="rId5"/>
          <a:stretch/>
        </p:blipFill>
        <p:spPr>
          <a:xfrm>
            <a:off x="5105520" y="2209680"/>
            <a:ext cx="3811320" cy="25527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486400" y="487692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http://poignantguide.net/ruby/chapter-2.html</a:t>
            </a:r>
            <a:r>
              <a:rPr b="0" lang="en-IE" sz="1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5:01:45Z</dcterms:created>
  <dc:creator>user</dc:creator>
  <dc:description/>
  <dc:language>en-US</dc:language>
  <cp:lastModifiedBy>user</cp:lastModifiedBy>
  <dcterms:modified xsi:type="dcterms:W3CDTF">2006-09-29T17:00:31Z</dcterms:modified>
  <cp:revision>18</cp:revision>
  <dc:subject/>
  <dc:title>Discovering Ruby.</dc:title>
</cp:coreProperties>
</file>