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751-6BC5-44A6-9523-9362943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FC2-3917-45F4-A143-29EE0D72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1A7-D169-4475-8688-EC2934C8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A2D-6F58-41AA-9BA2-1243EE5E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6B3-3680-4011-BC69-B562511F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07C-1021-46D3-914E-128999A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335E-4C57-484B-B9AF-2C23D1A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EA3-E7AB-4595-BD09-44C9DC6D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C35D-F9CD-47E0-8F88-1DFD3A0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DB9-A00E-435A-8266-5D6C305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769-71BD-45C4-AA67-43F8936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A6C-0A9B-438C-BF37-13D65848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597-F45D-4787-871C-EE351A5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7170-37CF-47AD-923B-5F367616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257-BAAA-4E15-9278-335D177B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02B-C4C9-4912-81BD-A6E4B30F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673-939C-4C6E-9176-F174D9A9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5DD-77B5-4AE9-A669-96DB177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E3A-4AB8-41E3-9196-5388007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453-86BB-47D9-A653-410C0ACC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A05-4A70-4797-AE46-D9085CC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C29-2CEC-48DB-8876-48A2390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813-E20A-48DA-9774-2E90913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ADA-C1F3-4323-9469-EC41126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82B-4D22-4A88-BE51-EB93D38CBBF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1DC-F3EA-4A42-9885-873DD3EF873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byforge.org/projects/rubygems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poignantguide.net/ruby/chapter-2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rubygarden.org/" TargetMode="External"/><Relationship Id="rId3" Type="http://schemas.openxmlformats.org/officeDocument/2006/relationships/hyperlink" Target="http://www.rubygarden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hyperlink" Target="http://www.ruby-doc.org/core/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hyperlink" Target="http://www.ruby-doc.org/stdlib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hyperlink" Target="http://poignantguide.net/ruby/chapter-2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Discovering Ruby</a:t>
            </a: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383ad"/>
                </a:solidFill>
                <a:latin typeface="Arial"/>
              </a:rPr>
              <a:t>Welcome to Barcamp Ireland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ruby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09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176"/>
                </a:solidFill>
                <a:latin typeface="Arial"/>
              </a:rPr>
              <a:t>http://pub.cozmixng.org/~the-rwiki/?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seful due to lots of example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in japane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Unfortunately some of the code is out of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till probally one of the best ruby-tk referen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ruby_tk" descr=""/>
          <p:cNvPicPr/>
          <p:nvPr/>
        </p:nvPicPr>
        <p:blipFill>
          <a:blip r:embed="rId5"/>
          <a:stretch/>
        </p:blipFill>
        <p:spPr>
          <a:xfrm>
            <a:off x="4648320" y="2616120"/>
            <a:ext cx="3809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me simple ruby-tk code.</a:t>
            </a:r>
            <a:br>
              <a:rPr sz="44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Button packing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quire "tk"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Top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Middle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Label.new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{ text "Bottom" pack('side' =&gt; 'top') }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k.mainloop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and Mysq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you need a databa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For mysql you have two modules to choose fro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Confused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ought this was newbie-friendl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Well 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Ruby gems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 will help you install whichever one you pic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3" name="mysqlmodules" descr=""/>
          <p:cNvPicPr/>
          <p:nvPr/>
        </p:nvPicPr>
        <p:blipFill>
          <a:blip r:embed="rId6"/>
          <a:stretch/>
        </p:blipFill>
        <p:spPr>
          <a:xfrm>
            <a:off x="4419720" y="2133720"/>
            <a:ext cx="4343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Gem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http://rubyforge.org/projects/rubygems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ems helps you install add-ons to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t tries to make life easier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owever you will have to reinstall your gems every time you upgrade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6" name="rubygems" descr=""/>
          <p:cNvPicPr/>
          <p:nvPr/>
        </p:nvPicPr>
        <p:blipFill>
          <a:blip r:embed="rId6"/>
          <a:stretch/>
        </p:blipFill>
        <p:spPr>
          <a:xfrm>
            <a:off x="4648320" y="2781360"/>
            <a:ext cx="38098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404176"/>
                </a:solidFill>
                <a:latin typeface="Arial"/>
              </a:rPr>
              <a:t>Mysql ruby test code from Kitebird. </a:t>
            </a:r>
            <a:br>
              <a:rPr sz="3600"/>
            </a:b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You will know this tes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383ad"/>
                </a:solidFill>
                <a:latin typeface="Arial"/>
              </a:rPr>
              <a:t>Simple.rb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require “mysql”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87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</a:t>
            </a: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begin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this example is used for checking if your installation is correct.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connect to the MySQL server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dbh = Mysql.real_connect(”localhost”, “testuser”, “testpass”, “test”)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# get server version string and display it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uts “Server version: ” + dbh.get_server_info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rescue MysqlError =&gt; e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code: “, e.errno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     print “Error message: “, e.error, “\n”</a:t>
            </a:r>
            <a:br>
              <a:rPr sz="1400"/>
            </a:br>
            <a:r>
              <a:rPr b="0" lang="en-GB" sz="1400" spc="-1" strike="noStrike">
                <a:solidFill>
                  <a:srgbClr val="8383ad"/>
                </a:solidFill>
                <a:latin typeface="Arial"/>
              </a:rPr>
              <a:t>   ensure</a:t>
            </a:r>
            <a:br>
              <a:rPr sz="1400"/>
            </a:b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     </a:t>
            </a: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 # disconnect from server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     dbh.close</a:t>
            </a:r>
            <a:br>
              <a:rPr sz="1200"/>
            </a:br>
            <a:r>
              <a:rPr b="0" lang="en-GB" sz="1200" spc="-1" strike="noStrike">
                <a:solidFill>
                  <a:srgbClr val="8383ad"/>
                </a:solidFill>
                <a:latin typeface="Arial"/>
              </a:rPr>
              <a:t>   end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have the me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your database, ruby can connect to the database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have picked your gui metho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You think you can make one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What now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1" name="why" descr=""/>
          <p:cNvPicPr/>
          <p:nvPr/>
        </p:nvPicPr>
        <p:blipFill>
          <a:blip r:embed="rId5"/>
          <a:stretch/>
        </p:blipFill>
        <p:spPr>
          <a:xfrm>
            <a:off x="4648320" y="2328840"/>
            <a:ext cx="3809880" cy="341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952880" y="56386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hook C:/ruby/rubygems-0.9.0/ ./post-install.rb failed: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undefined method 'post_install_message' for #&lt;Gem::Specification:0X3337fa8&gt;</a:t>
            </a:r>
            <a:br>
              <a:rPr sz="3200"/>
            </a:br>
            <a:r>
              <a:rPr b="0" lang="en-GB" sz="3200" spc="-1" strike="noStrike">
                <a:solidFill>
                  <a:srgbClr val="ff8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Error messages!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going to talk through my early days with rub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I’m trying to build a ruby applications so what I know is based off tha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’m not with ruby that long either so if I look blankly at you, prompt me about where to ask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at are you talking abou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4" name="why1" descr=""/>
          <p:cNvPicPr/>
          <p:nvPr/>
        </p:nvPicPr>
        <p:blipFill>
          <a:blip r:embed="rId4"/>
          <a:stretch/>
        </p:blipFill>
        <p:spPr>
          <a:xfrm>
            <a:off x="5105520" y="2133720"/>
            <a:ext cx="3429000" cy="308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34120" y="5410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where do you go to firs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8960" y="54097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http://tryruby.hobix.com/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tryruby" descr=""/>
          <p:cNvPicPr/>
          <p:nvPr/>
        </p:nvPicPr>
        <p:blipFill>
          <a:blip r:embed="rId1"/>
          <a:stretch/>
        </p:blipFill>
        <p:spPr>
          <a:xfrm>
            <a:off x="2665440" y="2070000"/>
            <a:ext cx="38116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Whats the coolest thing you learn there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0" name="maths" descr=""/>
          <p:cNvPicPr/>
          <p:nvPr/>
        </p:nvPicPr>
        <p:blipFill>
          <a:blip r:embed="rId1"/>
          <a:stretch/>
        </p:blipFill>
        <p:spPr>
          <a:xfrm>
            <a:off x="914400" y="2211480"/>
            <a:ext cx="7543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ww.ruby-lang.org/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The recently redesigned ruby homepag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Good for downloading ruby, updates, finding links and the ruby reference librar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unusual but good ruby sourc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ad for finding simple ruby example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rubyhome" descr=""/>
          <p:cNvPicPr/>
          <p:nvPr/>
        </p:nvPicPr>
        <p:blipFill>
          <a:blip r:embed="rId5"/>
          <a:stretch/>
        </p:blipFill>
        <p:spPr>
          <a:xfrm>
            <a:off x="4648320" y="2692440"/>
            <a:ext cx="38098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Other Resources to look at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Garden.</a:t>
            </a:r>
            <a:r>
              <a:rPr b="1" lang="en-IE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www</a:t>
            </a: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.rubygarden.org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core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www.ruby-doc.org/core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Ruby standard librar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www.ruby-doc.org/stdlib/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6" name="standardlib" descr=""/>
          <p:cNvPicPr/>
          <p:nvPr/>
        </p:nvPicPr>
        <p:blipFill>
          <a:blip r:embed="rId10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Ruby User guide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gain we are looking at the very basic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No ties to the standard library. So you cant see a follow through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Hard to tell without running the code if the code is up to dat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Out of date code is a big problem when you are error check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9" name="rubyuser" descr=""/>
          <p:cNvPicPr/>
          <p:nvPr/>
        </p:nvPicPr>
        <p:blipFill>
          <a:blip r:embed="rId5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So you want to make a ruby application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how can you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Besides using ruby-on-rail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Pikeaxe says ruby-tk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So that’s what I went with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However Ruby-tk is poorly documente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383ad"/>
                </a:solidFill>
                <a:latin typeface="Arial"/>
              </a:rPr>
              <a:t>QT is considered better documented and prettier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404176"/>
                </a:solidFill>
                <a:latin typeface="Arial"/>
              </a:rPr>
              <a:t>QT Verses Ruby-T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And don’t you partly use ruby for the prettines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So finding out ruby-tk is not pretty is upsettin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QT is 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dual licensed</a:t>
            </a: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. A commerical license and a GPL.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8383ad"/>
                </a:solidFill>
                <a:latin typeface="Arial"/>
              </a:rPr>
              <a:t>But I went with Ruby-tk so I cant help you with Q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helloruby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3811320" cy="2552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486400" y="4876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http://poignantguide.net/ruby/chapter-2.html</a:t>
            </a:r>
            <a:r>
              <a:rPr b="0" lang="en-IE" sz="1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01:45Z</dcterms:created>
  <dc:creator>user</dc:creator>
  <dc:description/>
  <dc:language>en-US</dc:language>
  <cp:lastModifiedBy>user</cp:lastModifiedBy>
  <dcterms:modified xsi:type="dcterms:W3CDTF">2006-09-29T17:00:31Z</dcterms:modified>
  <cp:revision>18</cp:revision>
  <dc:subject/>
  <dc:title>Discovering Ruby.</dc:title>
</cp:coreProperties>
</file>