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5.wmf" ContentType="image/x-wmf"/>
  <Override PartName="/ppt/media/image18.wmf" ContentType="image/x-wmf"/>
  <Override PartName="/ppt/media/hammer.wav" ContentType="audio/x-wav"/>
  <Override PartName="/ppt/media/image16.gif" ContentType="image/gif"/>
  <Override PartName="/ppt/media/image12.wmf" ContentType="image/x-wmf"/>
  <Override PartName="/ppt/media/image24.gif" ContentType="image/gif"/>
  <Override PartName="/ppt/media/image23.gif" ContentType="image/gif"/>
  <Override PartName="/ppt/media/image17.wmf" ContentType="image/x-wmf"/>
  <Override PartName="/ppt/media/image9.png" ContentType="image/png"/>
  <Override PartName="/ppt/media/image13.wmf" ContentType="image/x-wmf"/>
  <Override PartName="/ppt/media/image8.jpeg" ContentType="image/jpeg"/>
  <Override PartName="/ppt/media/image27.gif" ContentType="image/gif"/>
  <Override PartName="/ppt/media/voltage.wav" ContentType="audio/x-wav"/>
  <Override PartName="/ppt/media/wind.wav" ContentType="audio/x-wav"/>
  <Override PartName="/ppt/media/applause.wav" ContentType="audio/x-wav"/>
  <Override PartName="/ppt/media/camera.wav" ContentType="audio/x-wav"/>
  <Override PartName="/ppt/media/breeze.wav" ContentType="audio/x-wav"/>
  <Override PartName="/ppt/media/drumroll.wav" ContentType="audio/x-wav"/>
  <Override PartName="/ppt/media/arrow.wav" ContentType="audio/x-wav"/>
  <Override PartName="/ppt/media/image31.png" ContentType="image/png"/>
  <Override PartName="/ppt/media/image3.gif" ContentType="image/gif"/>
  <Override PartName="/ppt/media/image14.wmf" ContentType="image/x-wmf"/>
  <Override PartName="/ppt/media/image26.gif" ContentType="image/gif"/>
  <Override PartName="/ppt/media/image5.wmf" ContentType="image/x-wmf"/>
  <Override PartName="/ppt/media/laser.wav" ContentType="audio/x-wav"/>
  <Override PartName="/ppt/media/image30.jpeg" ContentType="image/jpeg"/>
  <Override PartName="/ppt/media/image7.wmf" ContentType="image/x-wmf"/>
  <Override PartName="/ppt/media/image4.wmf" ContentType="image/x-wmf"/>
  <Override PartName="/ppt/media/image6.wmf" ContentType="image/x-wmf"/>
  <Override PartName="/ppt/media/chimes.wav" ContentType="audio/x-wav"/>
  <Override PartName="/ppt/media/image29.png" ContentType="image/png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11.wmf" ContentType="image/x-wmf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392-7723-43FA-A356-4CFC1907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DD9-B455-408B-815F-4B5D04DB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0C2-F1AE-4EC3-89B1-1A241713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6ED-35D4-44AE-B9DD-4E689706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55C-9558-4D48-819A-DC8EE8B0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A72-417C-4FF5-A560-91F7C293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BCA-70C0-46B3-9B07-EDCB1AFE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1A6-5EBE-4B30-B911-97CDF09B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EAB-CA65-4470-BF94-F15CD0BD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773-5D08-405F-8EBC-1CAB12E2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5EF-7CC5-483C-9676-E55136D6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598-BE69-4A65-85EF-EA4AC63B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C388-EB39-495C-A81A-33716DD262D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audio" Target="../media/applause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drumroll.wav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gi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8.wmf"/><Relationship Id="rId15" Type="http://schemas.openxmlformats.org/officeDocument/2006/relationships/image" Target="../media/image18.wmf"/><Relationship Id="rId16" Type="http://schemas.openxmlformats.org/officeDocument/2006/relationships/image" Target="../media/image18.wmf"/><Relationship Id="rId17" Type="http://schemas.openxmlformats.org/officeDocument/2006/relationships/image" Target="../media/image18.wmf"/><Relationship Id="rId18" Type="http://schemas.openxmlformats.org/officeDocument/2006/relationships/image" Target="../media/image18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9.gif"/><Relationship Id="rId22" Type="http://schemas.openxmlformats.org/officeDocument/2006/relationships/image" Target="../media/image20.gif"/><Relationship Id="rId23" Type="http://schemas.openxmlformats.org/officeDocument/2006/relationships/image" Target="../media/image21.gif"/><Relationship Id="rId24" Type="http://schemas.openxmlformats.org/officeDocument/2006/relationships/image" Target="../media/image20.gif"/><Relationship Id="rId25" Type="http://schemas.openxmlformats.org/officeDocument/2006/relationships/image" Target="../media/image21.gif"/><Relationship Id="rId26" Type="http://schemas.openxmlformats.org/officeDocument/2006/relationships/image" Target="../media/image20.gif"/><Relationship Id="rId27" Type="http://schemas.openxmlformats.org/officeDocument/2006/relationships/image" Target="../media/image20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2.png"/><Relationship Id="rId32" Type="http://schemas.openxmlformats.org/officeDocument/2006/relationships/image" Target="../media/image23.gif"/><Relationship Id="rId33" Type="http://schemas.openxmlformats.org/officeDocument/2006/relationships/image" Target="../media/image24.gif"/><Relationship Id="rId34" Type="http://schemas.openxmlformats.org/officeDocument/2006/relationships/image" Target="../media/image25.wmf"/><Relationship Id="rId35" Type="http://schemas.openxmlformats.org/officeDocument/2006/relationships/image" Target="../media/image26.gif"/><Relationship Id="rId36" Type="http://schemas.openxmlformats.org/officeDocument/2006/relationships/image" Target="../media/image27.gif"/><Relationship Id="rId37" Type="http://schemas.openxmlformats.org/officeDocument/2006/relationships/audio" Target="../media/chimes.wav"/><Relationship Id="rId38" Type="http://schemas.openxmlformats.org/officeDocument/2006/relationships/audio" Target="../media/drumroll.wav"/><Relationship Id="rId39" Type="http://schemas.openxmlformats.org/officeDocument/2006/relationships/audio" Target="../media/drumroll.wav"/><Relationship Id="rId40" Type="http://schemas.openxmlformats.org/officeDocument/2006/relationships/audio" Target="../media/laser.wav"/><Relationship Id="rId41" Type="http://schemas.openxmlformats.org/officeDocument/2006/relationships/audio" Target="../media/explode.wav"/><Relationship Id="rId42" Type="http://schemas.openxmlformats.org/officeDocument/2006/relationships/audio" Target="../media/voltage.wav"/><Relationship Id="rId43" Type="http://schemas.openxmlformats.org/officeDocument/2006/relationships/audio" Target="../media/voltage.wav"/><Relationship Id="rId44" Type="http://schemas.openxmlformats.org/officeDocument/2006/relationships/audio" Target="../media/voltage.wav"/><Relationship Id="rId45" Type="http://schemas.openxmlformats.org/officeDocument/2006/relationships/audio" Target="../media/voltage.wav"/><Relationship Id="rId46" Type="http://schemas.openxmlformats.org/officeDocument/2006/relationships/audio" Target="../media/voltage.wav"/><Relationship Id="rId47" Type="http://schemas.openxmlformats.org/officeDocument/2006/relationships/audio" Target="../media/voltage.wav"/><Relationship Id="rId48" Type="http://schemas.openxmlformats.org/officeDocument/2006/relationships/audio" Target="../media/hammer.wav"/><Relationship Id="rId49" Type="http://schemas.openxmlformats.org/officeDocument/2006/relationships/audio" Target="../media/breeze.wav"/><Relationship Id="rId50" Type="http://schemas.openxmlformats.org/officeDocument/2006/relationships/audio" Target="../media/wind.wav"/><Relationship Id="rId51" Type="http://schemas.openxmlformats.org/officeDocument/2006/relationships/audio" Target="../media/explode.wav"/><Relationship Id="rId52" Type="http://schemas.openxmlformats.org/officeDocument/2006/relationships/audio" Target="../media/drumroll.wav"/><Relationship Id="rId5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gif"/><Relationship Id="rId3" Type="http://schemas.openxmlformats.org/officeDocument/2006/relationships/image" Target="../media/image20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laser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ergamena 1 4"/>
          <p:cNvSpPr/>
          <p:nvPr/>
        </p:nvSpPr>
        <p:spPr>
          <a:xfrm rot="21312000">
            <a:off x="-33480" y="316080"/>
            <a:ext cx="7747200" cy="4643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Un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Road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P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L’Innova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FASTWEBNET\Pictures\Raccolta multimediale Microsoft\j0432125.wmf"/>
          <p:cNvPicPr/>
          <p:nvPr/>
        </p:nvPicPr>
        <p:blipFill>
          <a:blip r:embed="rId1"/>
          <a:stretch/>
        </p:blipFill>
        <p:spPr>
          <a:xfrm rot="20559600">
            <a:off x="6144840" y="4967280"/>
            <a:ext cx="1844640" cy="172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FASTWEBNET\Pictures\Raccolta multimediale Microsoft\j0432123.wmf"/>
          <p:cNvPicPr/>
          <p:nvPr/>
        </p:nvPicPr>
        <p:blipFill>
          <a:blip r:embed="rId2"/>
          <a:stretch/>
        </p:blipFill>
        <p:spPr>
          <a:xfrm>
            <a:off x="285840" y="4975200"/>
            <a:ext cx="13618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FASTWEBNET\Pictures\Raccolta multimediale Microsoft\j0282985.gif"/>
          <p:cNvPicPr/>
          <p:nvPr/>
        </p:nvPicPr>
        <p:blipFill>
          <a:blip r:embed="rId3"/>
          <a:stretch/>
        </p:blipFill>
        <p:spPr>
          <a:xfrm>
            <a:off x="7072200" y="214200"/>
            <a:ext cx="2071800" cy="2219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FASTWEBNET\Pictures\Raccolta multimediale Microsoft\j0436672.wmf"/>
          <p:cNvPicPr/>
          <p:nvPr/>
        </p:nvPicPr>
        <p:blipFill>
          <a:blip r:embed="rId4"/>
          <a:stretch/>
        </p:blipFill>
        <p:spPr>
          <a:xfrm>
            <a:off x="2357280" y="5143680"/>
            <a:ext cx="1500480" cy="1419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FASTWEBNET\Pictures\Raccolta multimediale Microsoft\j0436628.wmf"/>
          <p:cNvPicPr/>
          <p:nvPr/>
        </p:nvPicPr>
        <p:blipFill>
          <a:blip r:embed="rId5"/>
          <a:stretch/>
        </p:blipFill>
        <p:spPr>
          <a:xfrm>
            <a:off x="4500720" y="48578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FASTWEBNET\Pictures\Raccolta multimediale Microsoft\j0440619.wmf"/>
          <p:cNvPicPr/>
          <p:nvPr/>
        </p:nvPicPr>
        <p:blipFill>
          <a:blip r:embed="rId6"/>
          <a:stretch/>
        </p:blipFill>
        <p:spPr>
          <a:xfrm>
            <a:off x="7429680" y="2571840"/>
            <a:ext cx="125712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Program Files\Microsoft Office\MEDIA\CAGCAT10\j0297551.wmf"/>
          <p:cNvPicPr/>
          <p:nvPr/>
        </p:nvPicPr>
        <p:blipFill>
          <a:blip r:embed="rId7"/>
          <a:stretch/>
        </p:blipFill>
        <p:spPr>
          <a:xfrm>
            <a:off x="7786800" y="3890880"/>
            <a:ext cx="1195200" cy="1824120"/>
          </a:xfrm>
          <a:prstGeom prst="rect">
            <a:avLst/>
          </a:prstGeom>
          <a:ln w="0">
            <a:noFill/>
          </a:ln>
        </p:spPr>
      </p:pic>
      <p:sp>
        <p:nvSpPr>
          <p:cNvPr id="49" name="Stella a 5 punte 9"/>
          <p:cNvSpPr/>
          <p:nvPr/>
        </p:nvSpPr>
        <p:spPr>
          <a:xfrm>
            <a:off x="0" y="0"/>
            <a:ext cx="571680" cy="428760"/>
          </a:xfrm>
          <a:custGeom>
            <a:avLst/>
            <a:gdLst>
              <a:gd name="textAreaLeft" fmla="*/ 176760 w 571680"/>
              <a:gd name="textAreaRight" fmla="*/ 394920 w 57168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71500" h="428625">
                <a:moveTo>
                  <a:pt x="1" y="163720"/>
                </a:moveTo>
                <a:lnTo>
                  <a:pt x="218295" y="163721"/>
                </a:lnTo>
                <a:lnTo>
                  <a:pt x="285750" y="0"/>
                </a:lnTo>
                <a:lnTo>
                  <a:pt x="353205" y="163721"/>
                </a:lnTo>
                <a:lnTo>
                  <a:pt x="571499" y="163720"/>
                </a:lnTo>
                <a:lnTo>
                  <a:pt x="394895" y="264903"/>
                </a:lnTo>
                <a:lnTo>
                  <a:pt x="462353" y="428624"/>
                </a:lnTo>
                <a:lnTo>
                  <a:pt x="285750" y="327438"/>
                </a:lnTo>
                <a:lnTo>
                  <a:pt x="109147" y="428624"/>
                </a:lnTo>
                <a:lnTo>
                  <a:pt x="176605" y="26490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magine 10" descr="Attilio.jpg"/>
          <p:cNvPicPr/>
          <p:nvPr/>
        </p:nvPicPr>
        <p:blipFill>
          <a:blip r:embed="rId8"/>
          <a:stretch/>
        </p:blipFill>
        <p:spPr>
          <a:xfrm>
            <a:off x="0" y="0"/>
            <a:ext cx="18892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75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75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5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75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75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75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75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uppo 7"/>
          <p:cNvGrpSpPr/>
          <p:nvPr/>
        </p:nvGrpSpPr>
        <p:grpSpPr>
          <a:xfrm>
            <a:off x="1571760" y="3214800"/>
            <a:ext cx="5357520" cy="2000160"/>
            <a:chOff x="1571760" y="3214800"/>
            <a:chExt cx="5357520" cy="2000160"/>
          </a:xfrm>
        </p:grpSpPr>
        <p:pic>
          <p:nvPicPr>
            <p:cNvPr id="52" name="Picture 2" descr="C:\Users\FASTWEBNET\Pictures\Raccolta multimediale Microsoft\j0441288.png"/>
            <p:cNvPicPr/>
            <p:nvPr/>
          </p:nvPicPr>
          <p:blipFill>
            <a:blip r:embed="rId1"/>
            <a:stretch/>
          </p:blipFill>
          <p:spPr>
            <a:xfrm>
              <a:off x="2835000" y="3486240"/>
              <a:ext cx="1615320" cy="14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C:\Users\FASTWEBNET\Pictures\Raccolta multimediale Microsoft\j0441288.png"/>
            <p:cNvPicPr/>
            <p:nvPr/>
          </p:nvPicPr>
          <p:blipFill>
            <a:blip r:embed="rId2"/>
            <a:stretch/>
          </p:blipFill>
          <p:spPr>
            <a:xfrm>
              <a:off x="4034520" y="3772080"/>
              <a:ext cx="1615320" cy="14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" descr="C:\Users\FASTWEBNET\Pictures\Raccolta multimediale Microsoft\j0441288.png"/>
            <p:cNvPicPr/>
            <p:nvPr/>
          </p:nvPicPr>
          <p:blipFill>
            <a:blip r:embed="rId3"/>
            <a:stretch/>
          </p:blipFill>
          <p:spPr>
            <a:xfrm>
              <a:off x="5313960" y="3429000"/>
              <a:ext cx="1615320" cy="14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" descr="C:\Users\FASTWEBNET\Pictures\Raccolta multimediale Microsoft\j0441288.png"/>
            <p:cNvPicPr/>
            <p:nvPr/>
          </p:nvPicPr>
          <p:blipFill>
            <a:blip r:embed="rId4"/>
            <a:stretch/>
          </p:blipFill>
          <p:spPr>
            <a:xfrm>
              <a:off x="1571760" y="3214800"/>
              <a:ext cx="1615320" cy="14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uppo 93"/>
          <p:cNvGrpSpPr/>
          <p:nvPr/>
        </p:nvGrpSpPr>
        <p:grpSpPr>
          <a:xfrm>
            <a:off x="6357960" y="2286000"/>
            <a:ext cx="2786040" cy="2986200"/>
            <a:chOff x="6357960" y="2286000"/>
            <a:chExt cx="2786040" cy="2986200"/>
          </a:xfrm>
        </p:grpSpPr>
        <p:pic>
          <p:nvPicPr>
            <p:cNvPr id="57" name="Picture 17" descr="C:\Users\FASTWEBNET\Pictures\Raccolta multimediale Microsoft\j0439239.jpg"/>
            <p:cNvPicPr/>
            <p:nvPr/>
          </p:nvPicPr>
          <p:blipFill>
            <a:blip r:embed="rId5"/>
            <a:stretch/>
          </p:blipFill>
          <p:spPr>
            <a:xfrm flipH="1">
              <a:off x="6572160" y="4143600"/>
              <a:ext cx="91440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0" descr="C:\Users\FASTWEBNET\Pictures\Raccolta multimediale Microsoft\j0423467.wmf"/>
            <p:cNvPicPr/>
            <p:nvPr/>
          </p:nvPicPr>
          <p:blipFill>
            <a:blip r:embed="rId6"/>
            <a:stretch/>
          </p:blipFill>
          <p:spPr>
            <a:xfrm>
              <a:off x="7968960" y="2286000"/>
              <a:ext cx="1175040" cy="18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7" descr="C:\Users\FASTWEBNET\Pictures\Raccolta multimediale Microsoft\j0196302.wmf"/>
            <p:cNvPicPr/>
            <p:nvPr/>
          </p:nvPicPr>
          <p:blipFill>
            <a:blip r:embed="rId7"/>
            <a:stretch/>
          </p:blipFill>
          <p:spPr>
            <a:xfrm flipH="1">
              <a:off x="7357680" y="2643120"/>
              <a:ext cx="113436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C:\Users\FASTWEBNET\Pictures\Raccolta multimediale Microsoft\j0198791.wmf"/>
            <p:cNvPicPr/>
            <p:nvPr/>
          </p:nvPicPr>
          <p:blipFill>
            <a:blip r:embed="rId8"/>
            <a:stretch/>
          </p:blipFill>
          <p:spPr>
            <a:xfrm flipH="1">
              <a:off x="6357960" y="2928960"/>
              <a:ext cx="1316880" cy="14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" descr="C:\Users\FASTWEBNET\Pictures\Raccolta multimediale Microsoft\j0301422.wmf"/>
            <p:cNvPicPr/>
            <p:nvPr/>
          </p:nvPicPr>
          <p:blipFill>
            <a:blip r:embed="rId9"/>
            <a:stretch/>
          </p:blipFill>
          <p:spPr>
            <a:xfrm>
              <a:off x="7429320" y="3286080"/>
              <a:ext cx="999720" cy="136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C:\Users\FASTWEBNET\Pictures\Raccolta multimediale Microsoft\j0334302.wmf"/>
            <p:cNvPicPr/>
            <p:nvPr/>
          </p:nvPicPr>
          <p:blipFill>
            <a:blip r:embed="rId10"/>
            <a:stretch/>
          </p:blipFill>
          <p:spPr>
            <a:xfrm>
              <a:off x="7286760" y="3857760"/>
              <a:ext cx="57132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uppo 92"/>
          <p:cNvGrpSpPr/>
          <p:nvPr/>
        </p:nvGrpSpPr>
        <p:grpSpPr>
          <a:xfrm>
            <a:off x="0" y="2300400"/>
            <a:ext cx="2928600" cy="2884320"/>
            <a:chOff x="0" y="2300400"/>
            <a:chExt cx="2928600" cy="2884320"/>
          </a:xfrm>
        </p:grpSpPr>
        <p:pic>
          <p:nvPicPr>
            <p:cNvPr id="64" name="Picture 15" descr="C:\Users\FASTWEBNET\Pictures\Raccolta multimediale Microsoft\j0356587.gif"/>
            <p:cNvPicPr/>
            <p:nvPr/>
          </p:nvPicPr>
          <p:blipFill>
            <a:blip r:embed="rId11"/>
            <a:stretch/>
          </p:blipFill>
          <p:spPr>
            <a:xfrm flipH="1">
              <a:off x="214200" y="2300400"/>
              <a:ext cx="95256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3" descr="C:\Users\FASTWEBNET\Pictures\Raccolta multimediale Microsoft\j0383096.wmf"/>
            <p:cNvPicPr/>
            <p:nvPr/>
          </p:nvPicPr>
          <p:blipFill>
            <a:blip r:embed="rId12"/>
            <a:stretch/>
          </p:blipFill>
          <p:spPr>
            <a:xfrm flipH="1">
              <a:off x="1428480" y="2443320"/>
              <a:ext cx="1500120" cy="175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uppo 15"/>
            <p:cNvGrpSpPr/>
            <p:nvPr/>
          </p:nvGrpSpPr>
          <p:grpSpPr>
            <a:xfrm>
              <a:off x="785880" y="2872080"/>
              <a:ext cx="1833480" cy="2312640"/>
              <a:chOff x="785880" y="2872080"/>
              <a:chExt cx="1833480" cy="2312640"/>
            </a:xfrm>
          </p:grpSpPr>
          <p:pic>
            <p:nvPicPr>
              <p:cNvPr id="67" name="Picture 4" descr="C:\Users\FASTWEBNET\Pictures\Raccolta multimediale Microsoft\j0197830.wmf"/>
              <p:cNvPicPr/>
              <p:nvPr/>
            </p:nvPicPr>
            <p:blipFill>
              <a:blip r:embed="rId13"/>
              <a:stretch/>
            </p:blipFill>
            <p:spPr>
              <a:xfrm>
                <a:off x="785880" y="287208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Picture 4" descr="C:\Users\FASTWEBNET\Pictures\Raccolta multimediale Microsoft\j0197830.wmf"/>
              <p:cNvPicPr/>
              <p:nvPr/>
            </p:nvPicPr>
            <p:blipFill>
              <a:blip r:embed="rId14"/>
              <a:stretch/>
            </p:blipFill>
            <p:spPr>
              <a:xfrm>
                <a:off x="938160" y="302436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Picture 4" descr="C:\Users\FASTWEBNET\Pictures\Raccolta multimediale Microsoft\j0197830.wmf"/>
              <p:cNvPicPr/>
              <p:nvPr/>
            </p:nvPicPr>
            <p:blipFill>
              <a:blip r:embed="rId15"/>
              <a:stretch/>
            </p:blipFill>
            <p:spPr>
              <a:xfrm>
                <a:off x="1090440" y="317664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4" descr="C:\Users\FASTWEBNET\Pictures\Raccolta multimediale Microsoft\j0197830.wmf"/>
              <p:cNvPicPr/>
              <p:nvPr/>
            </p:nvPicPr>
            <p:blipFill>
              <a:blip r:embed="rId16"/>
              <a:stretch/>
            </p:blipFill>
            <p:spPr>
              <a:xfrm>
                <a:off x="1243080" y="332928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4" descr="C:\Users\FASTWEBNET\Pictures\Raccolta multimediale Microsoft\j0197830.wmf"/>
              <p:cNvPicPr/>
              <p:nvPr/>
            </p:nvPicPr>
            <p:blipFill>
              <a:blip r:embed="rId17"/>
              <a:stretch/>
            </p:blipFill>
            <p:spPr>
              <a:xfrm>
                <a:off x="1395360" y="348156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4" descr="C:\Users\FASTWEBNET\Pictures\Raccolta multimediale Microsoft\j0197830.wmf"/>
              <p:cNvPicPr/>
              <p:nvPr/>
            </p:nvPicPr>
            <p:blipFill>
              <a:blip r:embed="rId18"/>
              <a:stretch/>
            </p:blipFill>
            <p:spPr>
              <a:xfrm>
                <a:off x="1547640" y="3634200"/>
                <a:ext cx="1071720" cy="1550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11" descr="C:\Users\FASTWEBNET\Pictures\Raccolta multimediale Microsoft\j0432125.wmf"/>
            <p:cNvPicPr/>
            <p:nvPr/>
          </p:nvPicPr>
          <p:blipFill>
            <a:blip r:embed="rId19"/>
            <a:stretch/>
          </p:blipFill>
          <p:spPr>
            <a:xfrm flipH="1">
              <a:off x="1143000" y="2300400"/>
              <a:ext cx="118656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2" descr="C:\Users\FASTWEBNET\Pictures\Raccolta multimediale Microsoft\j0432123.wmf"/>
            <p:cNvPicPr/>
            <p:nvPr/>
          </p:nvPicPr>
          <p:blipFill>
            <a:blip r:embed="rId20"/>
            <a:stretch/>
          </p:blipFill>
          <p:spPr>
            <a:xfrm>
              <a:off x="0" y="3086280"/>
              <a:ext cx="835920" cy="115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14" descr="C:\Users\FASTWEBNET\Pictures\Raccolta multimediale Microsoft\j0282753.gif"/>
          <p:cNvPicPr/>
          <p:nvPr/>
        </p:nvPicPr>
        <p:blipFill>
          <a:blip r:embed="rId21"/>
          <a:stretch/>
        </p:blipFill>
        <p:spPr>
          <a:xfrm>
            <a:off x="3500280" y="56386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76" name="Gruppo 66"/>
          <p:cNvGrpSpPr/>
          <p:nvPr/>
        </p:nvGrpSpPr>
        <p:grpSpPr>
          <a:xfrm>
            <a:off x="1928880" y="70560"/>
            <a:ext cx="6929280" cy="1572480"/>
            <a:chOff x="1928880" y="70560"/>
            <a:chExt cx="6929280" cy="1572480"/>
          </a:xfrm>
        </p:grpSpPr>
        <p:sp>
          <p:nvSpPr>
            <p:cNvPr id="77" name="Nuvola 34"/>
            <p:cNvSpPr/>
            <p:nvPr/>
          </p:nvSpPr>
          <p:spPr>
            <a:xfrm>
              <a:off x="1928880" y="115560"/>
              <a:ext cx="6929280" cy="1527480"/>
            </a:xfrm>
            <a:custGeom>
              <a:avLst/>
              <a:gdLst>
                <a:gd name="textAreaLeft" fmla="*/ 954720 w 6929280"/>
                <a:gd name="textAreaRight" fmla="*/ 5481720 w 6929280"/>
                <a:gd name="textAreaTop" fmla="*/ 230400 h 1527480"/>
                <a:gd name="textAreaBottom" fmla="*/ 1226160 h 152748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16" descr="C:\Users\FASTWEBNET\Pictures\Raccolta multimediale Microsoft\j0286779.gif"/>
            <p:cNvPicPr/>
            <p:nvPr/>
          </p:nvPicPr>
          <p:blipFill>
            <a:blip r:embed="rId22"/>
            <a:stretch/>
          </p:blipFill>
          <p:spPr>
            <a:xfrm>
              <a:off x="2621520" y="115920"/>
              <a:ext cx="1155600" cy="5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2" descr="C:\Users\FASTWEBNET\Pictures\Raccolta multimediale Microsoft\j0286780.gif"/>
            <p:cNvPicPr/>
            <p:nvPr/>
          </p:nvPicPr>
          <p:blipFill>
            <a:blip r:embed="rId23"/>
            <a:stretch/>
          </p:blipFill>
          <p:spPr>
            <a:xfrm>
              <a:off x="2621520" y="789840"/>
              <a:ext cx="115056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6" descr="C:\Users\FASTWEBNET\Pictures\Raccolta multimediale Microsoft\j0286779.gif"/>
            <p:cNvPicPr/>
            <p:nvPr/>
          </p:nvPicPr>
          <p:blipFill>
            <a:blip r:embed="rId24"/>
            <a:stretch/>
          </p:blipFill>
          <p:spPr>
            <a:xfrm>
              <a:off x="5239440" y="71280"/>
              <a:ext cx="1155600" cy="59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22" descr="C:\Users\FASTWEBNET\Pictures\Raccolta multimediale Microsoft\j0286780.gif"/>
            <p:cNvPicPr/>
            <p:nvPr/>
          </p:nvPicPr>
          <p:blipFill>
            <a:blip r:embed="rId25"/>
            <a:stretch/>
          </p:blipFill>
          <p:spPr>
            <a:xfrm>
              <a:off x="6548400" y="115920"/>
              <a:ext cx="115056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6" descr="C:\Users\FASTWEBNET\Pictures\Raccolta multimediale Microsoft\j0286779.gif"/>
            <p:cNvPicPr/>
            <p:nvPr/>
          </p:nvPicPr>
          <p:blipFill>
            <a:blip r:embed="rId26"/>
            <a:stretch/>
          </p:blipFill>
          <p:spPr>
            <a:xfrm>
              <a:off x="3930480" y="924480"/>
              <a:ext cx="1000800" cy="5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6" descr="C:\Users\FASTWEBNET\Pictures\Raccolta multimediale Microsoft\j0286779.gif"/>
            <p:cNvPicPr/>
            <p:nvPr/>
          </p:nvPicPr>
          <p:blipFill>
            <a:blip r:embed="rId27"/>
            <a:stretch/>
          </p:blipFill>
          <p:spPr>
            <a:xfrm>
              <a:off x="5932440" y="1014480"/>
              <a:ext cx="924840" cy="47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2" descr="C:\Users\FASTWEBNET\Pictures\Raccolta multimediale Microsoft\j0286780.gif"/>
            <p:cNvPicPr/>
            <p:nvPr/>
          </p:nvPicPr>
          <p:blipFill>
            <a:blip r:embed="rId28"/>
            <a:stretch/>
          </p:blipFill>
          <p:spPr>
            <a:xfrm>
              <a:off x="4931640" y="1055520"/>
              <a:ext cx="92376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2" descr="C:\Users\FASTWEBNET\Pictures\Raccolta multimediale Microsoft\j0286780.gif"/>
            <p:cNvPicPr/>
            <p:nvPr/>
          </p:nvPicPr>
          <p:blipFill>
            <a:blip r:embed="rId29"/>
            <a:stretch/>
          </p:blipFill>
          <p:spPr>
            <a:xfrm>
              <a:off x="4084560" y="205920"/>
              <a:ext cx="919440" cy="5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2" descr="C:\Users\FASTWEBNET\Pictures\Raccolta multimediale Microsoft\j0286780.gif"/>
            <p:cNvPicPr/>
            <p:nvPr/>
          </p:nvPicPr>
          <p:blipFill>
            <a:blip r:embed="rId30"/>
            <a:stretch/>
          </p:blipFill>
          <p:spPr>
            <a:xfrm>
              <a:off x="7087320" y="699840"/>
              <a:ext cx="1150560" cy="663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7" name="Forma 43"/>
            <p:cNvCxnSpPr/>
            <p:nvPr/>
          </p:nvCxnSpPr>
          <p:spPr>
            <a:xfrm flipH="1" rot="10800000">
              <a:off x="2619720" y="712080"/>
              <a:ext cx="579960" cy="410400"/>
            </a:xfrm>
            <a:prstGeom prst="bentConnector4">
              <a:avLst>
                <a:gd name="adj1" fmla="val -42608"/>
                <a:gd name="adj2" fmla="val 90517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8" name="Forma 45"/>
            <p:cNvCxnSpPr/>
            <p:nvPr/>
          </p:nvCxnSpPr>
          <p:spPr>
            <a:xfrm>
              <a:off x="3777840" y="413640"/>
              <a:ext cx="230760" cy="51012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89" name="Connettore 4 47"/>
            <p:cNvCxnSpPr/>
            <p:nvPr/>
          </p:nvCxnSpPr>
          <p:spPr>
            <a:xfrm>
              <a:off x="3777840" y="414000"/>
              <a:ext cx="153000" cy="768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0" name="Forma 49"/>
            <p:cNvCxnSpPr/>
            <p:nvPr/>
          </p:nvCxnSpPr>
          <p:spPr>
            <a:xfrm flipV="1">
              <a:off x="3771720" y="666000"/>
              <a:ext cx="2046960" cy="4561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1" name="Forma 51"/>
            <p:cNvCxnSpPr/>
            <p:nvPr/>
          </p:nvCxnSpPr>
          <p:spPr>
            <a:xfrm flipH="1" flipV="1" rot="10800000">
              <a:off x="4083480" y="470160"/>
              <a:ext cx="346680" cy="970920"/>
            </a:xfrm>
            <a:prstGeom prst="bentConnector4">
              <a:avLst>
                <a:gd name="adj1" fmla="val -115488"/>
                <a:gd name="adj2" fmla="val 102930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2" name="Connettore 4 53"/>
            <p:cNvCxnSpPr/>
            <p:nvPr/>
          </p:nvCxnSpPr>
          <p:spPr>
            <a:xfrm>
              <a:off x="5003640" y="471240"/>
              <a:ext cx="1775520" cy="588240"/>
            </a:xfrm>
            <a:prstGeom prst="bentConnector3">
              <a:avLst>
                <a:gd name="adj1" fmla="val 49989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3" name="Forma 55"/>
            <p:cNvCxnSpPr/>
            <p:nvPr/>
          </p:nvCxnSpPr>
          <p:spPr>
            <a:xfrm flipH="1" flipV="1" rot="5400000">
              <a:off x="6072480" y="690840"/>
              <a:ext cx="645120" cy="2160"/>
            </a:xfrm>
            <a:prstGeom prst="bentConnector4">
              <a:avLst>
                <a:gd name="adj1" fmla="val 26856"/>
                <a:gd name="adj2" fmla="val 54260000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4" name="Connettore 4 57"/>
            <p:cNvCxnSpPr/>
            <p:nvPr/>
          </p:nvCxnSpPr>
          <p:spPr>
            <a:xfrm flipV="1" rot="16200000">
              <a:off x="6447960" y="-559800"/>
              <a:ext cx="45000" cy="1305360"/>
            </a:xfrm>
            <a:prstGeom prst="bentConnector3">
              <a:avLst>
                <a:gd name="adj1" fmla="val -159677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5" name="Connettore 4 62"/>
            <p:cNvCxnSpPr/>
            <p:nvPr/>
          </p:nvCxnSpPr>
          <p:spPr>
            <a:xfrm flipV="1" rot="16200000">
              <a:off x="7100280" y="137160"/>
              <a:ext cx="585000" cy="540360"/>
            </a:xfrm>
            <a:prstGeom prst="bentConnector3">
              <a:avLst>
                <a:gd name="adj1" fmla="val 97044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6" name="Forma 65"/>
            <p:cNvCxnSpPr/>
            <p:nvPr/>
          </p:nvCxnSpPr>
          <p:spPr>
            <a:xfrm flipH="1">
              <a:off x="6778440" y="1252080"/>
              <a:ext cx="79920" cy="137160"/>
            </a:xfrm>
            <a:prstGeom prst="bentConnector4">
              <a:avLst>
                <a:gd name="adj1" fmla="val -315837"/>
                <a:gd name="adj2" fmla="val -280000"/>
              </a:avLst>
            </a:prstGeom>
            <a:ln w="936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97" name="Forma 67"/>
            <p:cNvCxnSpPr/>
            <p:nvPr/>
          </p:nvCxnSpPr>
          <p:spPr>
            <a:xfrm>
              <a:off x="7010280" y="1238400"/>
              <a:ext cx="653040" cy="126000"/>
            </a:xfrm>
            <a:prstGeom prst="bentConnector4">
              <a:avLst>
                <a:gd name="adj1" fmla="val 5901"/>
                <a:gd name="adj2" fmla="val 85959"/>
              </a:avLst>
            </a:prstGeom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98" name="Gruppo 68"/>
          <p:cNvGrpSpPr/>
          <p:nvPr/>
        </p:nvGrpSpPr>
        <p:grpSpPr>
          <a:xfrm>
            <a:off x="4357800" y="428760"/>
            <a:ext cx="1928880" cy="701640"/>
            <a:chOff x="4357800" y="428760"/>
            <a:chExt cx="1928880" cy="701640"/>
          </a:xfrm>
        </p:grpSpPr>
        <p:sp>
          <p:nvSpPr>
            <p:cNvPr id="99" name="Nuvola 73"/>
            <p:cNvSpPr/>
            <p:nvPr/>
          </p:nvSpPr>
          <p:spPr>
            <a:xfrm>
              <a:off x="4394880" y="546840"/>
              <a:ext cx="1714320" cy="583560"/>
            </a:xfrm>
            <a:custGeom>
              <a:avLst/>
              <a:gdLst>
                <a:gd name="textAreaLeft" fmla="*/ 236160 w 1714320"/>
                <a:gd name="textAreaRight" fmla="*/ 1356120 w 1714320"/>
                <a:gd name="textAreaTop" fmla="*/ 87840 h 583560"/>
                <a:gd name="textAreaBottom" fmla="*/ 468360 h 58356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CasellaDiTesto 72" descr=""/>
            <p:cNvPicPr/>
            <p:nvPr/>
          </p:nvPicPr>
          <p:blipFill>
            <a:blip r:embed="rId31"/>
            <a:stretch/>
          </p:blipFill>
          <p:spPr>
            <a:xfrm>
              <a:off x="4357800" y="428760"/>
              <a:ext cx="1928880" cy="69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Gruppo 60"/>
          <p:cNvGrpSpPr/>
          <p:nvPr/>
        </p:nvGrpSpPr>
        <p:grpSpPr>
          <a:xfrm>
            <a:off x="-543600" y="4874040"/>
            <a:ext cx="3562200" cy="2181600"/>
            <a:chOff x="-543600" y="4874040"/>
            <a:chExt cx="3562200" cy="2181600"/>
          </a:xfrm>
        </p:grpSpPr>
        <p:pic>
          <p:nvPicPr>
            <p:cNvPr id="102" name="Picture 13" descr="C:\Users\FASTWEBNET\Pictures\Raccolta multimediale Microsoft\j0356709.gif"/>
            <p:cNvPicPr/>
            <p:nvPr/>
          </p:nvPicPr>
          <p:blipFill>
            <a:blip r:embed="rId32"/>
            <a:stretch/>
          </p:blipFill>
          <p:spPr>
            <a:xfrm rot="1572000">
              <a:off x="1653840" y="5357160"/>
              <a:ext cx="1166760" cy="11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0" descr="C:\Users\FASTWEBNET\Pictures\Raccolta multimediale Microsoft\j0336903.gif"/>
            <p:cNvPicPr/>
            <p:nvPr/>
          </p:nvPicPr>
          <p:blipFill>
            <a:blip r:embed="rId33"/>
            <a:stretch/>
          </p:blipFill>
          <p:spPr>
            <a:xfrm rot="20417400">
              <a:off x="-285480" y="5071680"/>
              <a:ext cx="1482480" cy="17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3" descr="C:\Users\FASTWEBNET\Pictures\Raccolta multimediale Microsoft\j0197900.wmf"/>
            <p:cNvPicPr/>
            <p:nvPr/>
          </p:nvPicPr>
          <p:blipFill>
            <a:blip r:embed="rId34"/>
            <a:stretch/>
          </p:blipFill>
          <p:spPr>
            <a:xfrm>
              <a:off x="813600" y="4997520"/>
              <a:ext cx="1214280" cy="159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Fumetto 2 54"/>
          <p:cNvSpPr/>
          <p:nvPr/>
        </p:nvSpPr>
        <p:spPr>
          <a:xfrm>
            <a:off x="4857840" y="2214720"/>
            <a:ext cx="2143080" cy="1285560"/>
          </a:xfrm>
          <a:prstGeom prst="wedgeRoundRectCallout">
            <a:avLst>
              <a:gd name="adj1" fmla="val 35097"/>
              <a:gd name="adj2" fmla="val 5684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log, glob, 2.0, 3.0 digital divide, mass market, network, nickname, vision, web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metto 2 56"/>
          <p:cNvSpPr/>
          <p:nvPr/>
        </p:nvSpPr>
        <p:spPr>
          <a:xfrm>
            <a:off x="2857680" y="2214720"/>
            <a:ext cx="1928520" cy="1285560"/>
          </a:xfrm>
          <a:prstGeom prst="wedgeRoundRectCallout">
            <a:avLst>
              <a:gd name="adj1" fmla="val -60310"/>
              <a:gd name="adj2" fmla="val 6662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omma,bollato, decreti  legge, legislativi, DPR, DPL,regolamenti delegifica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umetto 2 58"/>
          <p:cNvSpPr/>
          <p:nvPr/>
        </p:nvSpPr>
        <p:spPr>
          <a:xfrm>
            <a:off x="357120" y="1857240"/>
            <a:ext cx="2357640" cy="428760"/>
          </a:xfrm>
          <a:prstGeom prst="wedgeRoundRectCallout">
            <a:avLst>
              <a:gd name="adj1" fmla="val -7740"/>
              <a:gd name="adj2" fmla="val 1558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omic"/>
              </a:rPr>
              <a:t>Burocra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umetto 2 59"/>
          <p:cNvSpPr/>
          <p:nvPr/>
        </p:nvSpPr>
        <p:spPr>
          <a:xfrm>
            <a:off x="6786720" y="1785960"/>
            <a:ext cx="2357280" cy="428760"/>
          </a:xfrm>
          <a:prstGeom prst="wedgeRoundRectCallout">
            <a:avLst>
              <a:gd name="adj1" fmla="val -20347"/>
              <a:gd name="adj2" fmla="val 126499"/>
              <a:gd name="adj3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uhaus 93"/>
              </a:rPr>
              <a:t>TECNOCRA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FASTWEBNET\Pictures\Raccolta multimediale Microsoft\j0282736.gif"/>
          <p:cNvPicPr/>
          <p:nvPr/>
        </p:nvPicPr>
        <p:blipFill>
          <a:blip r:embed="rId35"/>
          <a:stretch/>
        </p:blipFill>
        <p:spPr>
          <a:xfrm>
            <a:off x="635796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0" name="CasellaDiTesto 63"/>
          <p:cNvSpPr/>
          <p:nvPr/>
        </p:nvSpPr>
        <p:spPr>
          <a:xfrm>
            <a:off x="3524040" y="628344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70c0"/>
                </a:solidFill>
                <a:latin typeface="Broadway"/>
              </a:rPr>
              <a:t>Che vogliamo f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FASTWEBNET\Pictures\Raccolta multimediale Microsoft\j0336905.gif"/>
          <p:cNvPicPr/>
          <p:nvPr/>
        </p:nvPicPr>
        <p:blipFill>
          <a:blip r:embed="rId36"/>
          <a:stretch/>
        </p:blipFill>
        <p:spPr>
          <a:xfrm>
            <a:off x="142920" y="785880"/>
            <a:ext cx="1384200" cy="928800"/>
          </a:xfrm>
          <a:prstGeom prst="rect">
            <a:avLst/>
          </a:prstGeom>
          <a:ln w="0">
            <a:noFill/>
          </a:ln>
        </p:spPr>
      </p:pic>
      <p:sp>
        <p:nvSpPr>
          <p:cNvPr id="112" name="Fumetto 3 64"/>
          <p:cNvSpPr/>
          <p:nvPr/>
        </p:nvSpPr>
        <p:spPr>
          <a:xfrm rot="20736000">
            <a:off x="10800" y="333000"/>
            <a:ext cx="2593800" cy="422280"/>
          </a:xfrm>
          <a:prstGeom prst="wedgeEllipseCallout">
            <a:avLst>
              <a:gd name="adj1" fmla="val -4620"/>
              <a:gd name="adj2" fmla="val 76578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b050"/>
                </a:solidFill>
                <a:latin typeface="Blackadder ITC"/>
              </a:rPr>
              <a:t>Ho un sog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ccia bidirezionale verticale 69"/>
          <p:cNvSpPr/>
          <p:nvPr/>
        </p:nvSpPr>
        <p:spPr>
          <a:xfrm>
            <a:off x="3500280" y="1571760"/>
            <a:ext cx="2500560" cy="6429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it-IT" sz="2400" spc="-1" strike="noStrike">
                <a:solidFill>
                  <a:srgbClr val="ffffff"/>
                </a:solidFill>
                <a:latin typeface="Arial Black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6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wind.wav"/>
                                        </p:tgtEl>
                                      </p:cMediaNode>
                                    </p:audio>
                                    <p:animMotion origin="layout" path="M 6.38889E-006 -1.85185E-006 C 0.00122 -0.00509 6.38888999999988E-006 -0.01319 0.00382 -0.01504 C 0.01476 -0.02014 0.02709 -0.01689 0.03872 -0.01828 C 0.04358 -0.01898 0.04792 -0.02268 0.05261 -0.02338 C 0.05921 -0.0243 0.06598 -0.02453 0.07257 -0.025 C 0.10695 -0.02407 0.13212 -0.02338 0.16372 -0.01828 C 0.18108 -0.01088 0.19393 -0.01574 0.21511 -0.01666 C 0.23004 -0.0206 0.2448 -0.02338 0.26007 -0.025 C 0.2948 -0.03264 0.3316 -0.02662 0.36632 -0.01828 C 0.37275 -0.01666 0.38091 -0.0118 0.38751 -0.01157 C 0.43212 -0.01064 0.47674 -0.01041 0.52136 -0.00995 C 0.53004 -0.00231 0.52813 -0.00463 0.53507 -0.01319 C 0.53785 -0.025 0.5356 -0.02083 0.54011 -0.02662 C 0.5415 -0.03217 0.54636 -0.04166 0.54636 -0.04166 C 0.54792 -0.04814 0.5507 -0.04745 0.55382 -0.05324 C 0.55296 -0.07083 0.55157 -0.08356 0.54757 -0.1 C 0.54584 -0.10717 0.54653 -0.10926 0.54132 -0.11157 C 0.53907 -0.12083 0.53542 -0.12245 0.53004 -0.12824 C 0.52223 -0.13657 0.51632 -0.13819 0.50626 -0.14004 C 0.4816 -0.13889 0.46806 -0.1375 0.44636 -0.13495 C 0.37518 -0.10879 0.29879 -0.13101 0.22501 -0.13171 C 0.2191 -0.13426 0.21337 -0.13564 0.20747 -0.13819 C 0.19948 -0.14676 0.19532 -0.14814 0.20001 -0.16504 C 0.20001 -0.16527 0.20695 -0.16805 0.20886 -0.16828 C 0.21337 -0.16898 0.21806 -0.16944 0.22257 -0.1699 C 0.23195 -0.17893 0.25539 -0.17569 0.26632 -0.17662 C 0.28386 -0.18217 0.30087 -0.19004 0.31876 -0.19328 C 0.32466 -0.19583 0.33021 -0.19699 0.33629 -0.19838 C 0.34358 -0.20231 0.34948 -0.20486 0.35747 -0.20486 E">
                                      <p:cBhvr>
                                        <p:cTn id="131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drumroll.wav"/>
                                        </p:tgtEl>
                                      </p:cMediaNode>
                                    </p:audio>
                                    <p:animMotion origin="layout" path="M -0.03351 0.06783 C -0.0309 0.04213 -0.0217 0.03079 -0.01094 0.01112 C 0.000869999999999999 -0.01041 0.01007 -0.0331 0.02535 -0.05046 C 0.0276 -0.05972 0.03368 -0.06597 0.03524 -0.07546 C 0.03628 -0.08148 0.03785 -0.09375 0.03785 -0.09351 C 0.0375 -0.10648 0.03785 -0.11944 0.03663 -0.13217 C 0.03646 -0.13379 0.03472 -0.13402 0.03403 -0.13541 C 0.02535 -0.15439 0.01684 -0.14907 -0.00087 -0.15046 C -0.00261 -0.15092 -0.00486 -0.15023 -0.0059 -0.15208 C -0.01441 -0.1655 -0.000699999999999999 -0.15717 -0.01094 -0.16226 C -0.00764 -0.17963 0.00434 -0.16851 0.01406 -0.1655 C 0.0217 -0.16713 0.03108 -0.1706 0.03906 -0.1706 E">
                                      <p:cBhvr>
                                        <p:cTn id="15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527720" y="2571840"/>
            <a:ext cx="4616280" cy="4000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357120" y="2214720"/>
            <a:ext cx="3471840" cy="4000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uppo 19"/>
          <p:cNvGrpSpPr/>
          <p:nvPr/>
        </p:nvGrpSpPr>
        <p:grpSpPr>
          <a:xfrm>
            <a:off x="1714680" y="6037200"/>
            <a:ext cx="6858000" cy="820800"/>
            <a:chOff x="1714680" y="6037200"/>
            <a:chExt cx="6858000" cy="820800"/>
          </a:xfrm>
        </p:grpSpPr>
        <p:sp>
          <p:nvSpPr>
            <p:cNvPr id="117" name="Fumetto 4 12"/>
            <p:cNvSpPr/>
            <p:nvPr/>
          </p:nvSpPr>
          <p:spPr>
            <a:xfrm>
              <a:off x="1785960" y="6215040"/>
              <a:ext cx="6786720" cy="642960"/>
            </a:xfrm>
            <a:prstGeom prst="cloudCallout">
              <a:avLst>
                <a:gd name="adj1" fmla="val 5847"/>
                <a:gd name="adj2" fmla="val -14943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1714680" y="6037200"/>
              <a:ext cx="678672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708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00"/>
                  </a:solidFill>
                  <a:latin typeface="Cambria"/>
                  <a:ea typeface="Times New Roman"/>
                </a:rPr>
                <a:t>Courtesy of: Simone, Righini  (</a:t>
              </a:r>
              <a:r>
                <a:rPr b="0" lang="it-IT" sz="1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SEO Search Engine  Optimiza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00"/>
                  </a:solidFill>
                  <a:latin typeface="Arial"/>
                </a:rPr>
                <a:t>//www.goatseo.com/simone-righ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CasellaDiTesto 15"/>
          <p:cNvSpPr/>
          <p:nvPr/>
        </p:nvSpPr>
        <p:spPr>
          <a:xfrm>
            <a:off x="4029840" y="841320"/>
            <a:ext cx="97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0000"/>
                </a:solidFill>
                <a:latin typeface="Bauhaus 93"/>
              </a:rPr>
              <a:t>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umetto 2 17"/>
          <p:cNvSpPr/>
          <p:nvPr/>
        </p:nvSpPr>
        <p:spPr>
          <a:xfrm>
            <a:off x="571680" y="571680"/>
            <a:ext cx="3071520" cy="1428480"/>
          </a:xfrm>
          <a:prstGeom prst="wedgeRoundRectCallout">
            <a:avLst>
              <a:gd name="adj1" fmla="val 63768"/>
              <a:gd name="adj2" fmla="val 1197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uhaus 93"/>
              </a:rPr>
              <a:t>…</a:t>
            </a:r>
            <a:r>
              <a:rPr b="0" lang="it-IT" sz="3600" spc="-1" strike="noStrike">
                <a:solidFill>
                  <a:srgbClr val="ffffff"/>
                </a:solidFill>
                <a:latin typeface="Bauhaus 93"/>
              </a:rPr>
              <a:t>.un bel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umetto 2 18"/>
          <p:cNvSpPr/>
          <p:nvPr/>
        </p:nvSpPr>
        <p:spPr>
          <a:xfrm>
            <a:off x="5072040" y="285840"/>
            <a:ext cx="3929040" cy="2000160"/>
          </a:xfrm>
          <a:prstGeom prst="wedgeRoundRectCallout">
            <a:avLst>
              <a:gd name="adj1" fmla="val -77791"/>
              <a:gd name="adj2" fmla="val 7813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uhaus 93"/>
                <a:ea typeface="Calibri"/>
              </a:rPr>
              <a:t>Il Digital Divide inizia nella Poli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ergamena 1 3"/>
          <p:cNvSpPr/>
          <p:nvPr/>
        </p:nvSpPr>
        <p:spPr>
          <a:xfrm rot="21312000">
            <a:off x="-191880" y="533520"/>
            <a:ext cx="9609120" cy="5775120"/>
          </a:xfrm>
          <a:prstGeom prst="verticalScroll">
            <a:avLst>
              <a:gd name="adj" fmla="val 7907"/>
            </a:avLst>
          </a:prstGeom>
          <a:solidFill>
            <a:srgbClr val="437ce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..proviamo 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disegn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Qualche propo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P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L’Innova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FASTWEBNET\Pictures\Raccolta multimediale Microsoft\j0196302.wmf"/>
          <p:cNvPicPr/>
          <p:nvPr/>
        </p:nvPicPr>
        <p:blipFill>
          <a:blip r:embed="rId1"/>
          <a:stretch/>
        </p:blipFill>
        <p:spPr>
          <a:xfrm rot="21278400">
            <a:off x="320400" y="1227240"/>
            <a:ext cx="1900080" cy="197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FASTWEBNET\Pictures\Raccolta multimediale Microsoft\j0286780.gif"/>
          <p:cNvPicPr/>
          <p:nvPr/>
        </p:nvPicPr>
        <p:blipFill>
          <a:blip r:embed="rId2"/>
          <a:stretch/>
        </p:blipFill>
        <p:spPr>
          <a:xfrm>
            <a:off x="5857920" y="4857840"/>
            <a:ext cx="3286080" cy="192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FASTWEBNET\Pictures\Raccolta multimediale Microsoft\j0286779.gif"/>
          <p:cNvPicPr/>
          <p:nvPr/>
        </p:nvPicPr>
        <p:blipFill>
          <a:blip r:embed="rId3"/>
          <a:stretch/>
        </p:blipFill>
        <p:spPr>
          <a:xfrm>
            <a:off x="428760" y="5143680"/>
            <a:ext cx="2357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umetto 2 5"/>
          <p:cNvSpPr/>
          <p:nvPr/>
        </p:nvSpPr>
        <p:spPr>
          <a:xfrm>
            <a:off x="1928880" y="2643120"/>
            <a:ext cx="6929280" cy="1643040"/>
          </a:xfrm>
          <a:prstGeom prst="wedgeRoundRectCallout">
            <a:avLst>
              <a:gd name="adj1" fmla="val -69148"/>
              <a:gd name="adj2" fmla="val -49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Molte città, province, regioni si stanno attrezzando per fornire accessi wireless, </a:t>
            </a:r>
            <a:r>
              <a:rPr b="1" lang="it-IT" sz="1800" spc="-1" strike="noStrike" u="sng">
                <a:solidFill>
                  <a:srgbClr val="00b050"/>
                </a:solidFill>
                <a:uFillTx/>
                <a:latin typeface="Verdana"/>
                <a:ea typeface="Verdana"/>
              </a:rPr>
              <a:t>ma poche stanno pensando ad una alfabetizzazione reale</a:t>
            </a: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. Quando per strada incontrate quel segnale fatto a nuvoletta con la scritta WIFI, provate a chiedere a 10 passanti cosa vuol d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umetto 2 6"/>
          <p:cNvSpPr/>
          <p:nvPr/>
        </p:nvSpPr>
        <p:spPr>
          <a:xfrm>
            <a:off x="1785960" y="857160"/>
            <a:ext cx="7215120" cy="1714680"/>
          </a:xfrm>
          <a:prstGeom prst="wedgeRoundRectCallout">
            <a:avLst>
              <a:gd name="adj1" fmla="val -65365"/>
              <a:gd name="adj2" fmla="val 5356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Esiste una legge (Pisanu, art 7) che obbliga ad una serie di adempimenti per mettere a disposizione un hot-spot e per accedervi. E' stata fatta in un momento particolare. </a:t>
            </a:r>
            <a:r>
              <a:rPr b="1" lang="it-IT" sz="1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Ma è ancora valida?</a:t>
            </a:r>
            <a:r>
              <a:rPr b="1" lang="it-IT" sz="1800" spc="-1" strike="noStrike" u="sng">
                <a:solidFill>
                  <a:srgbClr val="254061"/>
                </a:solidFill>
                <a:uFillTx/>
                <a:latin typeface="Verdana"/>
                <a:ea typeface="Verdana"/>
              </a:rPr>
              <a:t> </a:t>
            </a: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Può essere emendata per renderla un reale blocco per i delinquenti e non un grande fastidio inutile per tutti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FASTWEBNET\Pictures\Raccolta multimediale Microsoft\j0336905.gif"/>
          <p:cNvPicPr/>
          <p:nvPr/>
        </p:nvPicPr>
        <p:blipFill>
          <a:blip r:embed="rId1"/>
          <a:stretch/>
        </p:blipFill>
        <p:spPr>
          <a:xfrm>
            <a:off x="142920" y="2500200"/>
            <a:ext cx="780840" cy="524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FASTWEBNET\Pictures\Raccolta multimediale Microsoft\j0439239.jpg"/>
          <p:cNvPicPr/>
          <p:nvPr/>
        </p:nvPicPr>
        <p:blipFill>
          <a:blip r:embed="rId2"/>
          <a:stretch/>
        </p:blipFill>
        <p:spPr>
          <a:xfrm>
            <a:off x="1371600" y="5514840"/>
            <a:ext cx="1343160" cy="1343160"/>
          </a:xfrm>
          <a:prstGeom prst="rect">
            <a:avLst/>
          </a:prstGeom>
          <a:ln w="0">
            <a:noFill/>
          </a:ln>
        </p:spPr>
      </p:pic>
      <p:sp>
        <p:nvSpPr>
          <p:cNvPr id="130" name="Pergamena 2 9"/>
          <p:cNvSpPr/>
          <p:nvPr/>
        </p:nvSpPr>
        <p:spPr>
          <a:xfrm>
            <a:off x="2714760" y="5643720"/>
            <a:ext cx="6143400" cy="9284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Sans Typewriter"/>
              </a:rPr>
              <a:t>Parliamone,  …ma non sol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umetto 2 11"/>
          <p:cNvSpPr/>
          <p:nvPr/>
        </p:nvSpPr>
        <p:spPr>
          <a:xfrm>
            <a:off x="142920" y="4286160"/>
            <a:ext cx="3429000" cy="1285920"/>
          </a:xfrm>
          <a:prstGeom prst="wedgeRoundRectCallout">
            <a:avLst>
              <a:gd name="adj1" fmla="val -32814"/>
              <a:gd name="adj2" fmla="val -170842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Il 60% degli Italiani non conosce INTERNE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Serve molta 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EDUCATION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643200" y="4334040"/>
          <a:ext cx="5357880" cy="1112760"/>
        </p:xfrm>
        <a:graphic>
          <a:graphicData uri="http://schemas.openxmlformats.org/drawingml/2006/table">
            <a:tbl>
              <a:tblPr/>
              <a:tblGrid>
                <a:gridCol w="800280"/>
                <a:gridCol w="996840"/>
                <a:gridCol w="996840"/>
                <a:gridCol w="997200"/>
                <a:gridCol w="650880"/>
                <a:gridCol w="915840"/>
              </a:tblGrid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 0 -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585.8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10-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542.6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588.4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4.2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 26-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.278.9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139.4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139.4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i &gt; 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.211.7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21.1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990.6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.619.2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.949.0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.084.3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.033.4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3" name="Connettore 2 14"/>
          <p:cNvCxnSpPr/>
          <p:nvPr/>
        </p:nvCxnSpPr>
        <p:spPr>
          <a:xfrm>
            <a:off x="1000080" y="4500720"/>
            <a:ext cx="714456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"/>
                            </p:stCondLst>
                            <p:childTnLst>
                              <p:par>
                                <p:cTn id="22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8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8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8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80"/>
                            </p:stCondLst>
                            <p:childTnLst>
                              <p:par>
                                <p:cTn id="2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8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FASTWEBNET\Pictures\Raccolta multimediale Microsoft\j0336905.gif"/>
          <p:cNvPicPr/>
          <p:nvPr/>
        </p:nvPicPr>
        <p:blipFill>
          <a:blip r:embed="rId1"/>
          <a:stretch/>
        </p:blipFill>
        <p:spPr>
          <a:xfrm>
            <a:off x="142920" y="857160"/>
            <a:ext cx="780840" cy="523800"/>
          </a:xfrm>
          <a:prstGeom prst="rect">
            <a:avLst/>
          </a:prstGeom>
          <a:ln w="0">
            <a:noFill/>
          </a:ln>
        </p:spPr>
      </p:pic>
      <p:sp>
        <p:nvSpPr>
          <p:cNvPr id="135" name="Fumetto 2 4"/>
          <p:cNvSpPr/>
          <p:nvPr/>
        </p:nvSpPr>
        <p:spPr>
          <a:xfrm>
            <a:off x="428760" y="3143160"/>
            <a:ext cx="2847960" cy="2000520"/>
          </a:xfrm>
          <a:prstGeom prst="wedgeRoundRectCallout">
            <a:avLst>
              <a:gd name="adj1" fmla="val -41893"/>
              <a:gd name="adj2" fmla="val -154226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Il digitale divide : tutti si devono poter connettere ...è vero, ma nell'attesa </a:t>
            </a:r>
            <a:r>
              <a:rPr b="1" lang="it-IT" sz="18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cerchiamo di servire una buona p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uppo 7"/>
          <p:cNvGrpSpPr/>
          <p:nvPr/>
        </p:nvGrpSpPr>
        <p:grpSpPr>
          <a:xfrm>
            <a:off x="3857760" y="3500280"/>
            <a:ext cx="5143320" cy="1465560"/>
            <a:chOff x="3857760" y="3500280"/>
            <a:chExt cx="5143320" cy="1465560"/>
          </a:xfrm>
        </p:grpSpPr>
        <p:sp>
          <p:nvSpPr>
            <p:cNvPr id="137" name="Fumetto 2 5"/>
            <p:cNvSpPr/>
            <p:nvPr/>
          </p:nvSpPr>
          <p:spPr>
            <a:xfrm>
              <a:off x="3857760" y="3500280"/>
              <a:ext cx="5057640" cy="1428840"/>
            </a:xfrm>
            <a:prstGeom prst="wedgeRoundRectCallout">
              <a:avLst>
                <a:gd name="adj1" fmla="val -112245"/>
                <a:gd name="adj2" fmla="val -22028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ttangolo 6"/>
            <p:cNvSpPr/>
            <p:nvPr/>
          </p:nvSpPr>
          <p:spPr>
            <a:xfrm>
              <a:off x="4160880" y="3500280"/>
              <a:ext cx="4840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254061"/>
                  </a:solidFill>
                  <a:latin typeface="Verdana"/>
                  <a:ea typeface="Verdana"/>
                </a:rPr>
                <a:t>Tutto a tutti è una bella regola condivisa da grandi religioni e grandi idee politiche, ma nel frattempo un po di sano egoismo </a:t>
              </a:r>
              <a:r>
                <a:rPr b="1" lang="it-IT" sz="1800" spc="-1" strike="noStrike" u="sng">
                  <a:solidFill>
                    <a:srgbClr val="00b050"/>
                  </a:solidFill>
                  <a:uFillTx/>
                  <a:latin typeface="Verdana"/>
                  <a:ea typeface="Verdana"/>
                </a:rPr>
                <a:t>permetterebbe di sfamare, se non soddisfare, mol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Fumetto 2 1"/>
          <p:cNvSpPr/>
          <p:nvPr/>
        </p:nvSpPr>
        <p:spPr>
          <a:xfrm>
            <a:off x="1357200" y="428760"/>
            <a:ext cx="7643880" cy="2428920"/>
          </a:xfrm>
          <a:prstGeom prst="wedgeRoundRectCallout">
            <a:avLst>
              <a:gd name="adj1" fmla="val -58555"/>
              <a:gd name="adj2" fmla="val -26129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54061"/>
                </a:solidFill>
                <a:latin typeface="Verdana"/>
                <a:ea typeface="Verdana"/>
              </a:rPr>
              <a:t>Il digital divide (tecnico) è una realtà o una scusa? Quasi il 90% del territori nazionale è coperto da una rete che permette di "chiedere un certificato di residenza", ma noi continuiamo a fantasticare sulla necessità di 20 Mega o 100 Mega come se tutti dovessimo trasmettere radiografie urgenti o vedere film ad alta definizione. </a:t>
            </a:r>
            <a:r>
              <a:rPr b="1" lang="it-IT" sz="1800" spc="-1" strike="noStrike" u="sng">
                <a:solidFill>
                  <a:srgbClr val="00b050"/>
                </a:solidFill>
                <a:uFillTx/>
                <a:latin typeface="Verdana"/>
                <a:ea typeface="Verdana"/>
              </a:rPr>
              <a:t>Cominciamo ad usare la '500 , quella del miracolo economico, e poi vedremo se qualcuno potrà permettersi la Ferrari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:\Users\FASTWEBNET\Pictures\Raccolta multimediale Microsoft\j0439239.jpg"/>
          <p:cNvPicPr/>
          <p:nvPr/>
        </p:nvPicPr>
        <p:blipFill>
          <a:blip r:embed="rId2"/>
          <a:stretch/>
        </p:blipFill>
        <p:spPr>
          <a:xfrm>
            <a:off x="285840" y="5514840"/>
            <a:ext cx="1342800" cy="1343160"/>
          </a:xfrm>
          <a:prstGeom prst="rect">
            <a:avLst/>
          </a:prstGeom>
          <a:ln w="0">
            <a:noFill/>
          </a:ln>
        </p:spPr>
      </p:pic>
      <p:sp>
        <p:nvSpPr>
          <p:cNvPr id="141" name="Pergamena 2 9"/>
          <p:cNvSpPr/>
          <p:nvPr/>
        </p:nvSpPr>
        <p:spPr>
          <a:xfrm>
            <a:off x="1714680" y="5786280"/>
            <a:ext cx="7143480" cy="92880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Sans Typewriter"/>
              </a:rPr>
              <a:t>Parliamone,…ma con realism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Program Files\Microsoft Office\MEDIA\CAGCAT10\j0212957.wmf"/>
          <p:cNvPicPr/>
          <p:nvPr/>
        </p:nvPicPr>
        <p:blipFill>
          <a:blip r:embed="rId1"/>
          <a:stretch/>
        </p:blipFill>
        <p:spPr>
          <a:xfrm>
            <a:off x="92160" y="4248000"/>
            <a:ext cx="2784240" cy="2792520"/>
          </a:xfrm>
          <a:prstGeom prst="rect">
            <a:avLst/>
          </a:prstGeom>
          <a:ln w="0">
            <a:noFill/>
          </a:ln>
        </p:spPr>
      </p:pic>
      <p:sp>
        <p:nvSpPr>
          <p:cNvPr id="143" name="Ovale 2"/>
          <p:cNvSpPr/>
          <p:nvPr/>
        </p:nvSpPr>
        <p:spPr>
          <a:xfrm>
            <a:off x="35712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e 3"/>
          <p:cNvSpPr/>
          <p:nvPr/>
        </p:nvSpPr>
        <p:spPr>
          <a:xfrm>
            <a:off x="100008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e 4"/>
          <p:cNvSpPr/>
          <p:nvPr/>
        </p:nvSpPr>
        <p:spPr>
          <a:xfrm>
            <a:off x="164304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e 5"/>
          <p:cNvSpPr/>
          <p:nvPr/>
        </p:nvSpPr>
        <p:spPr>
          <a:xfrm>
            <a:off x="2286000" y="4000680"/>
            <a:ext cx="57168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e 6"/>
          <p:cNvSpPr/>
          <p:nvPr/>
        </p:nvSpPr>
        <p:spPr>
          <a:xfrm>
            <a:off x="2928960" y="4000680"/>
            <a:ext cx="571320" cy="571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Nastro perforato 7"/>
          <p:cNvSpPr/>
          <p:nvPr/>
        </p:nvSpPr>
        <p:spPr>
          <a:xfrm rot="1204800">
            <a:off x="4738320" y="595440"/>
            <a:ext cx="4235400" cy="114300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Wide Latin"/>
              </a:rPr>
              <a:t>E.GOV 2.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sellaDiTesto 8"/>
          <p:cNvSpPr/>
          <p:nvPr/>
        </p:nvSpPr>
        <p:spPr>
          <a:xfrm>
            <a:off x="515520" y="1344600"/>
            <a:ext cx="48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Verdana"/>
                <a:ea typeface="Verdana"/>
              </a:rPr>
              <a:t>Il traguardo è noto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sellaDiTesto 9"/>
          <p:cNvSpPr/>
          <p:nvPr/>
        </p:nvSpPr>
        <p:spPr>
          <a:xfrm>
            <a:off x="3515400" y="5929200"/>
            <a:ext cx="50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Verdana"/>
                <a:ea typeface="Verdana"/>
              </a:rPr>
              <a:t>…</a:t>
            </a:r>
            <a:r>
              <a:rPr b="1" lang="it-IT" sz="3200" spc="-1" strike="noStrike">
                <a:solidFill>
                  <a:srgbClr val="0033cc"/>
                </a:solidFill>
                <a:latin typeface="Verdana"/>
                <a:ea typeface="Verdana"/>
              </a:rPr>
              <a:t>è ora di raggiungerl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80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8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8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8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8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800"/>
                            </p:stCondLst>
                            <p:childTnLst>
                              <p:par>
                                <p:cTn id="3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animMotion origin="layout" path="M 5.55556E-007 3.7037E-007 C 0.2776 0.0162 0.55521 0.03241 0.57118 -0.00671 C 0.58715 -0.04583 0.12986 -0.18495 0.09618 -0.23519 C 0.0625 -0.28542 0.39566 -0.27847 0.36875 -0.30833 C 0.34184 -0.3382 -0.09254 -0.38032 -0.0651 -0.41505 C -0.03767 -0.44977 0.43333 -0.49977 0.53368 -0.51667 E">
                                      <p:cBhvr>
                                        <p:cTn id="34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8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6:26:13Z</dcterms:created>
  <dc:creator>FASTWEBNET</dc:creator>
  <dc:description/>
  <dc:language>en-US</dc:language>
  <cp:lastModifiedBy>FASTWEBNET</cp:lastModifiedBy>
  <dcterms:modified xsi:type="dcterms:W3CDTF">2010-05-11T10:27:51Z</dcterms:modified>
  <cp:revision>54</cp:revision>
  <dc:subject/>
  <dc:title>Diapositiva 1</dc:title>
</cp:coreProperties>
</file>