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.jpeg" ContentType="image/jpeg"/>
  <Override PartName="/ppt/media/image5.png" ContentType="image/png"/>
  <Override PartName="/ppt/media/applause.wav" ContentType="audio/x-wav"/>
  <Override PartName="/ppt/media/image4.gif" ContentType="image/gif"/>
  <Override PartName="/ppt/media/drumroll.wav" ContentType="audio/x-wav"/>
  <Override PartName="/ppt/media/image3.jpeg" ContentType="image/jpeg"/>
  <Override PartName="/ppt/media/image7.wmf" ContentType="image/x-wmf"/>
  <Override PartName="/ppt/media/chimes.wav" ContentType="audio/x-wav"/>
  <Override PartName="/ppt/media/image6.wmf" ContentType="image/x-wmf"/>
  <Override PartName="/ppt/media/image8.wmf" ContentType="image/x-wmf"/>
  <Override PartName="/ppt/media/image11.gif" ContentType="image/gif"/>
  <Override PartName="/ppt/media/image9.wmf" ContentType="image/x-wmf"/>
  <Override PartName="/ppt/media/image14.wmf" ContentType="image/x-wmf"/>
  <Override PartName="/ppt/media/image15.gif" ContentType="image/gif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hammer.wav" ContentType="audio/x-wav"/>
  <Override PartName="/ppt/media/image2.jpeg" ContentType="image/jpeg"/>
  <Override PartName="/ppt/media/image18.wmf" ContentType="image/x-wmf"/>
  <Override PartName="/ppt/media/image24.gif" ContentType="image/gif"/>
  <Override PartName="/ppt/media/image20.wmf" ContentType="image/x-wmf"/>
  <Override PartName="/ppt/media/image19.wmf" ContentType="image/x-wmf"/>
  <Override PartName="/ppt/media/image25.gif" ContentType="image/gif"/>
  <Override PartName="/ppt/media/image21.wmf" ContentType="image/x-wmf"/>
  <Override PartName="/ppt/media/image26.gif" ContentType="image/gif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A09-14B6-4D7A-99BF-0B4FF58B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5B3-D705-4B56-A3E3-CCA0AFC2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744-85AB-441F-9E47-85152ADC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1D2-F105-4DE2-8645-7F5EB0DB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D96-281C-4FE0-80BC-7662EA76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44B-D019-4204-8AB4-0265FA8B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864D7-EA40-4A7C-B336-3CD8618853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FBF57-6221-4AB1-91EB-C6CAF4399A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3EB88-6552-4829-B539-5FDFDD87F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74B-79D6-4661-8384-03789D3D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7EF3E-86C5-4BB7-A847-DFCF19B6BD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5C8FE-2538-4E62-858B-498D2568A9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B5C1C-AFCB-4E91-A397-13398540DA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64835-2038-4731-AC75-5E626ABC69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DDFD3-B27A-4DA0-AF78-B16C4CE9B9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797D9-45F6-4B8F-9D29-B7D8A99A37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C9E39-B5D9-495E-8213-96DCDF10BB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113FF-8471-42E7-A08A-4AF5C311D4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5F436-7745-4795-BC7A-9471259E3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3D4-E239-47FA-B592-75BA50FC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749-E7CA-4933-8590-B8FD114C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F02-240F-4A2C-8FAB-7B93809F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EE4-71CE-4C00-92F8-038808C0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DD6-D7C9-4C26-8C04-D7D5385D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7BB2-D317-4141-8981-4DEC98FEC59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8286840" y="6564240"/>
            <a:ext cx="7142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CAB7-4062-422D-A886-3AB4A63E2F38}" type="slidenum">
              <a:rPr b="1" lang="it-IT" sz="14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audio" Target="../media/chimes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drumroll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applause.wav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6.wmf"/><Relationship Id="rId6" Type="http://schemas.openxmlformats.org/officeDocument/2006/relationships/image" Target="../media/image20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audio" Target="../media/chimes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:\Users\FASTWEBNET\Pictures\Raccolta multimediale Microsoft\j0439239.jpg"/>
          <p:cNvPicPr/>
          <p:nvPr/>
        </p:nvPicPr>
        <p:blipFill>
          <a:blip r:embed="rId1"/>
          <a:stretch/>
        </p:blipFill>
        <p:spPr>
          <a:xfrm rot="19580400">
            <a:off x="528480" y="5100120"/>
            <a:ext cx="1629000" cy="1629000"/>
          </a:xfrm>
          <a:prstGeom prst="rect">
            <a:avLst/>
          </a:prstGeom>
          <a:ln w="0">
            <a:noFill/>
          </a:ln>
        </p:spPr>
      </p:pic>
      <p:sp>
        <p:nvSpPr>
          <p:cNvPr id="157" name="Pergamena 1 4"/>
          <p:cNvSpPr/>
          <p:nvPr/>
        </p:nvSpPr>
        <p:spPr>
          <a:xfrm rot="21312000">
            <a:off x="-33480" y="316080"/>
            <a:ext cx="7747200" cy="4643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Da Barcamp 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A Barcamp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ella a 5 punte 9"/>
          <p:cNvSpPr/>
          <p:nvPr/>
        </p:nvSpPr>
        <p:spPr>
          <a:xfrm>
            <a:off x="0" y="0"/>
            <a:ext cx="571680" cy="428760"/>
          </a:xfrm>
          <a:custGeom>
            <a:avLst/>
            <a:gdLst>
              <a:gd name="textAreaLeft" fmla="*/ 176760 w 571680"/>
              <a:gd name="textAreaRight" fmla="*/ 394920 w 57168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71500" h="428625">
                <a:moveTo>
                  <a:pt x="1" y="163720"/>
                </a:moveTo>
                <a:lnTo>
                  <a:pt x="218295" y="163721"/>
                </a:lnTo>
                <a:lnTo>
                  <a:pt x="285750" y="0"/>
                </a:lnTo>
                <a:lnTo>
                  <a:pt x="353205" y="163721"/>
                </a:lnTo>
                <a:lnTo>
                  <a:pt x="571499" y="163720"/>
                </a:lnTo>
                <a:lnTo>
                  <a:pt x="394895" y="264903"/>
                </a:lnTo>
                <a:lnTo>
                  <a:pt x="462353" y="428624"/>
                </a:lnTo>
                <a:lnTo>
                  <a:pt x="285750" y="327438"/>
                </a:lnTo>
                <a:lnTo>
                  <a:pt x="109147" y="428624"/>
                </a:lnTo>
                <a:lnTo>
                  <a:pt x="176605" y="26490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magine 10" descr="Attilio.jpg"/>
          <p:cNvPicPr/>
          <p:nvPr/>
        </p:nvPicPr>
        <p:blipFill>
          <a:blip r:embed="rId2"/>
          <a:stretch/>
        </p:blipFill>
        <p:spPr>
          <a:xfrm>
            <a:off x="0" y="0"/>
            <a:ext cx="1889280" cy="157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Users\FASTWEBNET\Pictures\Raccolta multimediale Microsoft\j0356709.gif"/>
          <p:cNvPicPr/>
          <p:nvPr/>
        </p:nvPicPr>
        <p:blipFill>
          <a:blip r:embed="rId3"/>
          <a:stretch/>
        </p:blipFill>
        <p:spPr>
          <a:xfrm flipH="1">
            <a:off x="2928960" y="46432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1" name="~PP1873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C:\Users\FASTWEBNET\Pictures\Raccolta multimediale Microsoft\j0301422.wmf"/>
          <p:cNvPicPr/>
          <p:nvPr/>
        </p:nvPicPr>
        <p:blipFill>
          <a:blip r:embed="rId5"/>
          <a:stretch/>
        </p:blipFill>
        <p:spPr>
          <a:xfrm>
            <a:off x="6926400" y="2214720"/>
            <a:ext cx="221760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C:\Users\FASTWEBNET\Pictures\Raccolta multimediale Microsoft\j0197830.wmf"/>
          <p:cNvPicPr/>
          <p:nvPr/>
        </p:nvPicPr>
        <p:blipFill>
          <a:blip r:embed="rId6"/>
          <a:stretch/>
        </p:blipFill>
        <p:spPr>
          <a:xfrm>
            <a:off x="7616880" y="0"/>
            <a:ext cx="1527120" cy="2209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C:\Users\FASTWEBNET\Pictures\Raccolta multimediale Microsoft\j0334302.wmf"/>
          <p:cNvPicPr/>
          <p:nvPr/>
        </p:nvPicPr>
        <p:blipFill>
          <a:blip r:embed="rId7"/>
          <a:stretch/>
        </p:blipFill>
        <p:spPr>
          <a:xfrm>
            <a:off x="7566120" y="4643280"/>
            <a:ext cx="1434960" cy="221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C:\Users\FASTWEBNET\Pictures\Raccolta multimediale Microsoft\j0197900.wmf"/>
          <p:cNvPicPr/>
          <p:nvPr/>
        </p:nvPicPr>
        <p:blipFill>
          <a:blip r:embed="rId8"/>
          <a:stretch/>
        </p:blipFill>
        <p:spPr>
          <a:xfrm flipH="1">
            <a:off x="5357880" y="4562640"/>
            <a:ext cx="1752480" cy="229536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ergamena 1 1"/>
          <p:cNvSpPr/>
          <p:nvPr/>
        </p:nvSpPr>
        <p:spPr>
          <a:xfrm rot="21300000">
            <a:off x="-155520" y="393480"/>
            <a:ext cx="9159840" cy="6099120"/>
          </a:xfrm>
          <a:prstGeom prst="verticalScroll">
            <a:avLst>
              <a:gd name="adj" fmla="val 11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Sarem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00"/>
                </a:solidFill>
                <a:latin typeface="comic"/>
              </a:rPr>
              <a:t>la Spina nel fianc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a ch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ritarda l’applicazione delle leggi vigent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asellaDiTesto 2"/>
          <p:cNvSpPr/>
          <p:nvPr/>
        </p:nvSpPr>
        <p:spPr>
          <a:xfrm rot="21300000">
            <a:off x="2598840" y="347760"/>
            <a:ext cx="39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Matura MT Script Capitals"/>
              </a:rPr>
              <a:t>Buon Lavor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ttangolo 3"/>
          <p:cNvSpPr/>
          <p:nvPr/>
        </p:nvSpPr>
        <p:spPr>
          <a:xfrm>
            <a:off x="2571840" y="6072120"/>
            <a:ext cx="2357280" cy="285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ForumPa The road of Inno275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8000">
    <p:wipe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ergamena 1 6"/>
          <p:cNvSpPr/>
          <p:nvPr/>
        </p:nvSpPr>
        <p:spPr>
          <a:xfrm rot="21312000">
            <a:off x="-9000" y="647640"/>
            <a:ext cx="8926200" cy="58136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“</a:t>
            </a: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Le legg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S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ma ch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pon ma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ad es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7"/>
          <p:cNvSpPr/>
          <p:nvPr/>
        </p:nvSpPr>
        <p:spPr>
          <a:xfrm rot="21300000">
            <a:off x="1726920" y="620280"/>
            <a:ext cx="60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Nel 2009 provammo a di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ForumPa The road of Inno269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Users\FASTWEBNET\Pictures\Raccolta multimediale Microsoft\j0439239.jpg"/>
          <p:cNvPicPr/>
          <p:nvPr/>
        </p:nvPicPr>
        <p:blipFill>
          <a:blip r:embed="rId2"/>
          <a:stretch/>
        </p:blipFill>
        <p:spPr>
          <a:xfrm>
            <a:off x="0" y="0"/>
            <a:ext cx="1771560" cy="1771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Users\FASTWEBNET\Pictures\Raccolta multimediale Microsoft\j0285285.gif"/>
          <p:cNvPicPr/>
          <p:nvPr/>
        </p:nvPicPr>
        <p:blipFill>
          <a:blip r:embed="rId3"/>
          <a:stretch/>
        </p:blipFill>
        <p:spPr>
          <a:xfrm>
            <a:off x="0" y="4341960"/>
            <a:ext cx="1785960" cy="2516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C:\Users\FASTWEBNET\Pictures\Raccolta multimediale Microsoft\j0356587.gif"/>
          <p:cNvPicPr/>
          <p:nvPr/>
        </p:nvPicPr>
        <p:blipFill>
          <a:blip r:embed="rId4"/>
          <a:stretch/>
        </p:blipFill>
        <p:spPr>
          <a:xfrm>
            <a:off x="7556400" y="0"/>
            <a:ext cx="1587600" cy="2000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C:\Users\FASTWEBNET\Pictures\Raccolta multimediale Microsoft\j0436672.wmf"/>
          <p:cNvPicPr/>
          <p:nvPr/>
        </p:nvPicPr>
        <p:blipFill>
          <a:blip r:embed="rId5"/>
          <a:stretch/>
        </p:blipFill>
        <p:spPr>
          <a:xfrm>
            <a:off x="6802560" y="4643280"/>
            <a:ext cx="2341440" cy="2214720"/>
          </a:xfrm>
          <a:prstGeom prst="rect">
            <a:avLst/>
          </a:prstGeom>
          <a:ln w="0">
            <a:noFill/>
          </a:ln>
        </p:spPr>
      </p:pic>
    </p:spTree>
  </p:cSld>
  <p:transition advTm="16000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ergamena 1 6"/>
          <p:cNvSpPr/>
          <p:nvPr/>
        </p:nvSpPr>
        <p:spPr>
          <a:xfrm rot="21312000">
            <a:off x="1343160" y="579240"/>
            <a:ext cx="6246720" cy="5813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comic"/>
              </a:rPr>
              <a:t>Il deca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comic"/>
              </a:rPr>
              <a:t>della amministrazione digit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omic"/>
              </a:rPr>
              <a:t>Per ricord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omic"/>
              </a:rPr>
              <a:t>Le  legg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omic"/>
              </a:rPr>
              <a:t>non attu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C:\Users\FASTWEBNET\Pictures\Raccolta multimediale Microsoft\j0356709.gif"/>
          <p:cNvPicPr/>
          <p:nvPr/>
        </p:nvPicPr>
        <p:blipFill>
          <a:blip r:embed="rId1"/>
          <a:stretch/>
        </p:blipFill>
        <p:spPr>
          <a:xfrm>
            <a:off x="7215120" y="4429080"/>
            <a:ext cx="2000160" cy="2357640"/>
          </a:xfrm>
          <a:prstGeom prst="rect">
            <a:avLst/>
          </a:prstGeom>
          <a:ln w="0">
            <a:noFill/>
          </a:ln>
        </p:spPr>
      </p:pic>
      <p:sp>
        <p:nvSpPr>
          <p:cNvPr id="175" name="Rettangolo 7"/>
          <p:cNvSpPr/>
          <p:nvPr/>
        </p:nvSpPr>
        <p:spPr>
          <a:xfrm rot="21300000">
            <a:off x="3215520" y="620640"/>
            <a:ext cx="30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E scrivemm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ForumPa The road of Inno274.wav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FASTWEBNET\Pictures\Raccolta multimediale Microsoft\j0423163.wmf"/>
          <p:cNvPicPr/>
          <p:nvPr/>
        </p:nvPicPr>
        <p:blipFill>
          <a:blip r:embed="rId3"/>
          <a:stretch/>
        </p:blipFill>
        <p:spPr>
          <a:xfrm>
            <a:off x="7316640" y="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:\Users\FASTWEBNET\Pictures\Raccolta multimediale Microsoft\j0282753.gif"/>
          <p:cNvPicPr/>
          <p:nvPr/>
        </p:nvPicPr>
        <p:blipFill>
          <a:blip r:embed="rId4"/>
          <a:stretch/>
        </p:blipFill>
        <p:spPr>
          <a:xfrm>
            <a:off x="0" y="4929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C:\Users\FASTWEBNET\Pictures\Raccolta multimediale Microsoft\j0336334.gif"/>
          <p:cNvPicPr/>
          <p:nvPr/>
        </p:nvPicPr>
        <p:blipFill>
          <a:blip r:embed="rId5"/>
          <a:stretch/>
        </p:blipFill>
        <p:spPr>
          <a:xfrm>
            <a:off x="0" y="71280"/>
            <a:ext cx="2543040" cy="2286000"/>
          </a:xfrm>
          <a:prstGeom prst="rect">
            <a:avLst/>
          </a:prstGeom>
          <a:ln w="0">
            <a:noFill/>
          </a:ln>
        </p:spPr>
      </p:pic>
    </p:spTree>
  </p:cSld>
  <p:transition advTm="11000"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ergamena 1 2"/>
          <p:cNvSpPr/>
          <p:nvPr/>
        </p:nvSpPr>
        <p:spPr>
          <a:xfrm rot="21300000">
            <a:off x="249120" y="293400"/>
            <a:ext cx="8647200" cy="6164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587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asellaDiTesto 3"/>
          <p:cNvSpPr/>
          <p:nvPr/>
        </p:nvSpPr>
        <p:spPr>
          <a:xfrm rot="21300000">
            <a:off x="1609200" y="409320"/>
            <a:ext cx="62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Abbiamo iniziato a lavorarc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ForumPa The road of Inno272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LA P.A. INNOVATIVA: aggiungi un tassello al puzzle. Redazione del Decalogo Digitale. "/>
          <p:cNvPicPr/>
          <p:nvPr/>
        </p:nvPicPr>
        <p:blipFill>
          <a:blip r:embed="rId2"/>
          <a:stretch/>
        </p:blipFill>
        <p:spPr>
          <a:xfrm rot="21291000">
            <a:off x="4059000" y="4422600"/>
            <a:ext cx="1939680" cy="1940040"/>
          </a:xfrm>
          <a:prstGeom prst="rect">
            <a:avLst/>
          </a:prstGeom>
          <a:ln w="0">
            <a:noFill/>
          </a:ln>
        </p:spPr>
      </p:pic>
      <p:sp>
        <p:nvSpPr>
          <p:cNvPr id="184" name="Rettangolo 8"/>
          <p:cNvSpPr/>
          <p:nvPr/>
        </p:nvSpPr>
        <p:spPr>
          <a:xfrm rot="21322200">
            <a:off x="1152720" y="923400"/>
            <a:ext cx="70405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comic"/>
              </a:rPr>
              <a:t>LA P.A.  INNOVATIVA: </a:t>
            </a: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aggiungi un tassello al puzzl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omic"/>
              </a:rPr>
              <a:t>Redazione del Decalogo Digitale</a:t>
            </a: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C:\Users\FASTWEBNET\Pictures\Raccolta multimediale Microsoft\j0198791.wmf"/>
          <p:cNvPicPr/>
          <p:nvPr/>
        </p:nvPicPr>
        <p:blipFill>
          <a:blip r:embed="rId3"/>
          <a:stretch/>
        </p:blipFill>
        <p:spPr>
          <a:xfrm>
            <a:off x="0" y="4767120"/>
            <a:ext cx="1901880" cy="2090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C:\Users\FASTWEBNET\Pictures\Raccolta multimediale Microsoft\j0216748.wmf"/>
          <p:cNvPicPr/>
          <p:nvPr/>
        </p:nvPicPr>
        <p:blipFill>
          <a:blip r:embed="rId4"/>
          <a:stretch/>
        </p:blipFill>
        <p:spPr>
          <a:xfrm>
            <a:off x="0" y="214200"/>
            <a:ext cx="1790640" cy="1773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FASTWEBNET\Pictures\Raccolta multimediale Microsoft\j0301422.wmf"/>
          <p:cNvPicPr/>
          <p:nvPr/>
        </p:nvPicPr>
        <p:blipFill>
          <a:blip r:embed="rId5"/>
          <a:stretch/>
        </p:blipFill>
        <p:spPr>
          <a:xfrm>
            <a:off x="7074000" y="4857840"/>
            <a:ext cx="2070000" cy="2000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FASTWEBNET\Pictures\Raccolta multimediale Microsoft\j0196302.wmf"/>
          <p:cNvPicPr/>
          <p:nvPr/>
        </p:nvPicPr>
        <p:blipFill>
          <a:blip r:embed="rId6"/>
          <a:stretch/>
        </p:blipFill>
        <p:spPr>
          <a:xfrm>
            <a:off x="7701120" y="0"/>
            <a:ext cx="1442880" cy="1500120"/>
          </a:xfrm>
          <a:prstGeom prst="rect">
            <a:avLst/>
          </a:prstGeom>
          <a:ln w="0">
            <a:noFill/>
          </a:ln>
        </p:spPr>
      </p:pic>
    </p:spTree>
  </p:cSld>
  <p:transition advTm="27000"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ergamena 1 3"/>
          <p:cNvSpPr/>
          <p:nvPr/>
        </p:nvSpPr>
        <p:spPr>
          <a:xfrm rot="21300000">
            <a:off x="-39600" y="412920"/>
            <a:ext cx="9144000" cy="6057720"/>
          </a:xfrm>
          <a:prstGeom prst="verticalScroll">
            <a:avLst>
              <a:gd name="adj" fmla="val 8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sellaDiTesto 8"/>
          <p:cNvSpPr/>
          <p:nvPr/>
        </p:nvSpPr>
        <p:spPr>
          <a:xfrm rot="21300000">
            <a:off x="1938600" y="3938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Prima ci sono sta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ForumPa The road of Inno271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"/>
          <p:cNvSpPr/>
          <p:nvPr/>
        </p:nvSpPr>
        <p:spPr>
          <a:xfrm rot="21306000">
            <a:off x="477360" y="1266480"/>
            <a:ext cx="7880040" cy="2028960"/>
          </a:xfrm>
          <a:prstGeom prst="rect">
            <a:avLst/>
          </a:prstGeom>
          <a:noFill/>
          <a:ln w="38160">
            <a:solidFill>
              <a:srgbClr val="ffff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"/>
              </a:rPr>
              <a:t>DECRETO DEL PRESIDENTE DELLA REPUB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comic"/>
              </a:rPr>
              <a:t>28 dicembre 2000, n. 44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  <a:ea typeface="Times New Roman"/>
              </a:rPr>
              <a:t>"Disposizioni legislative in ma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  <a:ea typeface="Times New Roman"/>
              </a:rPr>
              <a:t>di documentazione amministrativa.</a:t>
            </a:r>
            <a:r>
              <a:rPr b="1" lang="it-IT" sz="3600" spc="-1" strike="noStrike">
                <a:solidFill>
                  <a:srgbClr val="ffff00"/>
                </a:solidFill>
                <a:latin typeface="comic"/>
                <a:ea typeface="Times New Roman"/>
              </a:rPr>
              <a:t>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ff00"/>
                </a:solidFill>
                <a:latin typeface="comic"/>
                <a:ea typeface="Times New Roman"/>
              </a:rPr>
              <a:t>G.U. n. 42 del 20 febbraio 2001- Supplemento ordinario n. 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ttangolo 9"/>
          <p:cNvSpPr/>
          <p:nvPr/>
        </p:nvSpPr>
        <p:spPr>
          <a:xfrm rot="21289200">
            <a:off x="662040" y="3728880"/>
            <a:ext cx="8001000" cy="2395080"/>
          </a:xfrm>
          <a:prstGeom prst="rect">
            <a:avLst/>
          </a:prstGeom>
          <a:noFill/>
          <a:ln w="57240">
            <a:solidFill>
              <a:srgbClr val="ffff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"/>
              </a:rPr>
              <a:t>Decreto legislativo 7 marzo 2005, n. 8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"/>
              </a:rPr>
              <a:t>del 16 maggio 2005, n. 112 - S.O. n. 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“</a:t>
            </a: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Codice dell’amministrazione  digital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"/>
              </a:rPr>
              <a:t>aggiornato dal D.Lgs. n. 159 del 4 aprile 2006</a:t>
            </a:r>
            <a:r>
              <a:rPr b="1" lang="it-IT" sz="2400" spc="-1" strike="noStrike">
                <a:solidFill>
                  <a:srgbClr val="ffff00"/>
                </a:solidFill>
                <a:latin typeface="comic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C:\Users\FASTWEBNET\Pictures\Raccolta multimediale Microsoft\j0432123.wmf"/>
          <p:cNvPicPr/>
          <p:nvPr/>
        </p:nvPicPr>
        <p:blipFill>
          <a:blip r:embed="rId2"/>
          <a:stretch/>
        </p:blipFill>
        <p:spPr>
          <a:xfrm>
            <a:off x="8001000" y="142920"/>
            <a:ext cx="1143000" cy="1579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Users\FASTWEBNET\Pictures\Raccolta multimediale Microsoft\j0432125.wmf"/>
          <p:cNvPicPr/>
          <p:nvPr/>
        </p:nvPicPr>
        <p:blipFill>
          <a:blip r:embed="rId3"/>
          <a:stretch/>
        </p:blipFill>
        <p:spPr>
          <a:xfrm>
            <a:off x="7542360" y="5357880"/>
            <a:ext cx="1601640" cy="1500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:\Users\FASTWEBNET\Pictures\Raccolta multimediale Microsoft\j0336905.gif"/>
          <p:cNvPicPr/>
          <p:nvPr/>
        </p:nvPicPr>
        <p:blipFill>
          <a:blip r:embed="rId4"/>
          <a:stretch/>
        </p:blipFill>
        <p:spPr>
          <a:xfrm>
            <a:off x="0" y="71280"/>
            <a:ext cx="1490760" cy="1000440"/>
          </a:xfrm>
          <a:prstGeom prst="rect">
            <a:avLst/>
          </a:prstGeom>
          <a:ln w="0">
            <a:noFill/>
          </a:ln>
        </p:spPr>
      </p:pic>
    </p:spTree>
  </p:cSld>
  <p:transition advTm="39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ergamena 1 1"/>
          <p:cNvSpPr/>
          <p:nvPr/>
        </p:nvSpPr>
        <p:spPr>
          <a:xfrm rot="21300000">
            <a:off x="-179280" y="264960"/>
            <a:ext cx="9620280" cy="6083280"/>
          </a:xfrm>
          <a:prstGeom prst="verticalScroll">
            <a:avLst>
              <a:gd name="adj" fmla="val 8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comic"/>
              </a:rPr>
              <a:t>DECRETO LEGISLATIV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comic"/>
              </a:rPr>
              <a:t>27 ottobre 2009, n. 15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Attuazione della legge 4 marzo 2009, n. 15, in materia di ottimizzazione della produttività del lavoro pubblico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di efficienza e trasparenza delle pubbliche  amministrazioni.</a:t>
            </a: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sellaDiTesto 6"/>
          <p:cNvSpPr/>
          <p:nvPr/>
        </p:nvSpPr>
        <p:spPr>
          <a:xfrm rot="21300000">
            <a:off x="1016640" y="372960"/>
            <a:ext cx="31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poi è arriva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ForumPa The road of Inno273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FASTWEBNET\Pictures\Raccolta multimediale Microsoft\j0315816.gif"/>
          <p:cNvPicPr/>
          <p:nvPr/>
        </p:nvPicPr>
        <p:blipFill>
          <a:blip r:embed="rId2"/>
          <a:stretch/>
        </p:blipFill>
        <p:spPr>
          <a:xfrm>
            <a:off x="0" y="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FASTWEBNET\Pictures\Raccolta multimediale Microsoft\j0315816.gif"/>
          <p:cNvPicPr/>
          <p:nvPr/>
        </p:nvPicPr>
        <p:blipFill>
          <a:blip r:embed="rId3"/>
          <a:stretch/>
        </p:blipFill>
        <p:spPr>
          <a:xfrm>
            <a:off x="728676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ransition advTm="27000"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8A7E-A308-4460-8782-FA0BFC14437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rgamena 1 3"/>
          <p:cNvSpPr/>
          <p:nvPr/>
        </p:nvSpPr>
        <p:spPr>
          <a:xfrm rot="21300000">
            <a:off x="-248760" y="387000"/>
            <a:ext cx="9144000" cy="6103800"/>
          </a:xfrm>
          <a:prstGeom prst="verticalScroll">
            <a:avLst>
              <a:gd name="adj" fmla="val 8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asellaDiTesto 6"/>
          <p:cNvSpPr/>
          <p:nvPr/>
        </p:nvSpPr>
        <p:spPr>
          <a:xfrm rot="21289200">
            <a:off x="298080" y="353880"/>
            <a:ext cx="83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Le regole del gioco sono state defi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ForumPa The road of Inno270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6" name="Rettangolo 3"/>
          <p:cNvSpPr/>
          <p:nvPr/>
        </p:nvSpPr>
        <p:spPr>
          <a:xfrm rot="21300000">
            <a:off x="752760" y="887760"/>
            <a:ext cx="7315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"/>
              </a:rPr>
              <a:t>Diritto all’uso delle tec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"/>
              </a:rPr>
              <a:t>I cittadini e le imprese hanno diritto a richiedere ed ottenere l’uso delle tecnologie telematiche nelle comunicazioni con le pubbliche amministrazioni 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tangolo 4"/>
          <p:cNvSpPr/>
          <p:nvPr/>
        </p:nvSpPr>
        <p:spPr>
          <a:xfrm rot="21300000">
            <a:off x="700200" y="2570400"/>
            <a:ext cx="7365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"/>
              </a:rPr>
              <a:t>Alfabetizzazione informa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"/>
              </a:rPr>
              <a:t>dei cittad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comic"/>
              </a:rPr>
              <a:t>Lo Stato promuove iniziative volte a favorire l’alfabetizzazione informatica dei cittadini ……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tangolo 5"/>
          <p:cNvSpPr/>
          <p:nvPr/>
        </p:nvSpPr>
        <p:spPr>
          <a:xfrm rot="21300000">
            <a:off x="1053000" y="4532040"/>
            <a:ext cx="7093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"/>
              </a:rPr>
              <a:t>Valore probatorio del documento informa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"/>
              </a:rPr>
              <a:t>Il documento informatico, cui è apposta una firma elettronica, sul piano probatorio è liberamente valutabile in giudizio, 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C:\Users\FASTWEBNET\Pictures\Raccolta multimediale Microsoft\AG00522_.gif"/>
          <p:cNvPicPr/>
          <p:nvPr/>
        </p:nvPicPr>
        <p:blipFill>
          <a:blip r:embed="rId2"/>
          <a:stretch/>
        </p:blipFill>
        <p:spPr>
          <a:xfrm>
            <a:off x="7494480" y="4714920"/>
            <a:ext cx="1401840" cy="2004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Users\FASTWEBNET\Pictures\Raccolta multimediale Microsoft\j0318087.gif"/>
          <p:cNvPicPr/>
          <p:nvPr/>
        </p:nvPicPr>
        <p:blipFill>
          <a:blip r:embed="rId3"/>
          <a:stretch/>
        </p:blipFill>
        <p:spPr>
          <a:xfrm>
            <a:off x="7699320" y="285840"/>
            <a:ext cx="1444680" cy="1357200"/>
          </a:xfrm>
          <a:prstGeom prst="rect">
            <a:avLst/>
          </a:prstGeom>
          <a:ln w="0">
            <a:noFill/>
          </a:ln>
        </p:spPr>
      </p:pic>
    </p:spTree>
  </p:cSld>
  <p:transition advTm="42000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"/>
                            </p:stCondLst>
                            <p:childTnLst>
                              <p:par>
                                <p:cTn id="1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50"/>
                            </p:stCondLst>
                            <p:childTnLst>
                              <p:par>
                                <p:cTn id="1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50"/>
                            </p:stCondLst>
                            <p:childTnLst>
                              <p:par>
                                <p:cTn id="14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450"/>
                            </p:stCondLst>
                            <p:childTnLst>
                              <p:par>
                                <p:cTn id="1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ergamena 1 6"/>
          <p:cNvSpPr/>
          <p:nvPr/>
        </p:nvSpPr>
        <p:spPr>
          <a:xfrm rot="21300000">
            <a:off x="-255240" y="348840"/>
            <a:ext cx="9610560" cy="6023160"/>
          </a:xfrm>
          <a:prstGeom prst="verticalScroll">
            <a:avLst>
              <a:gd name="adj" fmla="val 8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comic"/>
                <a:ea typeface="Verdana"/>
              </a:rPr>
              <a:t>Regole per il Procedimento e Fascicolo informa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skerville Old Face"/>
                <a:ea typeface="Verdana"/>
              </a:rPr>
              <a:t>Le pubbliche amministrazioni gestiscono i procedimenti amministrativi utilizzando le tecnologie dell’informazione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skerville Old Face"/>
                <a:ea typeface="Verdana"/>
              </a:rPr>
              <a:t>La pubblica amministrazione titolare del procedimento può raccogliere in un fascicolo informatico gli atti, 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skerville Old Face"/>
                <a:ea typeface="Verdana"/>
              </a:rPr>
              <a:t>Il fascicolo informatico è realizzato garantendo la possibilità di essere consultato ed alimentato da tutte le amministrazioni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skerville Old Face"/>
                <a:ea typeface="Verdana"/>
              </a:rPr>
              <a:t>Il fascicolo informatico reca l’indicazione della amministrazione responsabile e delle altre amministrazioni partecipanti …………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sellaDiTesto 7"/>
          <p:cNvSpPr/>
          <p:nvPr/>
        </p:nvSpPr>
        <p:spPr>
          <a:xfrm rot="21300000">
            <a:off x="1230840" y="293400"/>
            <a:ext cx="65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L’amministrazione digitale h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ForumPa The road of Inno262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6000"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ergamena 1 1"/>
          <p:cNvSpPr/>
          <p:nvPr/>
        </p:nvSpPr>
        <p:spPr>
          <a:xfrm rot="21300000">
            <a:off x="541080" y="363240"/>
            <a:ext cx="8461440" cy="6099120"/>
          </a:xfrm>
          <a:prstGeom prst="verticalScroll">
            <a:avLst>
              <a:gd name="adj" fmla="val 11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marL="181080" indent="-181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Che anche un semp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Un uso “banale” della rete può essere il vero miracolo dell’età modern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e  per attuarlo è suffi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applicare le leggi che esist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asellaDiTesto 2"/>
          <p:cNvSpPr/>
          <p:nvPr/>
        </p:nvSpPr>
        <p:spPr>
          <a:xfrm rot="21300000">
            <a:off x="946080" y="439560"/>
            <a:ext cx="72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……</a:t>
            </a: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ed avendo sempre in ment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ForumPa The road of Inno268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2000"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6:26:13Z</dcterms:created>
  <dc:creator>FASTWEBNET</dc:creator>
  <dc:description/>
  <dc:language>en-US</dc:language>
  <cp:lastModifiedBy>FASTWEBNET</cp:lastModifiedBy>
  <dcterms:modified xsi:type="dcterms:W3CDTF">2010-05-12T23:29:59Z</dcterms:modified>
  <cp:revision>108</cp:revision>
  <dc:subject/>
  <dc:title>Diapositiva 1</dc:title>
</cp:coreProperties>
</file>