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15B-B9D7-4FDF-8377-E5ED6F11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7C9-7A95-4709-82B5-EE8B10B1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298A-9728-4CB9-B869-112E2D9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6CBED-C9E7-418B-A5B6-F868E000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9D19B-17B6-4530-BE85-9DC306A3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745F1-F434-43CF-8CC0-BC6EC43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7E78E-D4FF-45C2-A8C7-29117F4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0EB9A-11A9-4F6D-B1CF-2459E8A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4FD24-F52B-45E9-8824-83D4A268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BFD42-5B86-4BF5-9D08-845B06E6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D5658-B0D5-4552-BA52-D183FA29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FD207-D914-464E-AFA7-92DC42F2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4D1-3AFA-4F11-BAB7-89C2F2D3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362A2-8B42-4EFD-BAEC-210EFB8F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690B3-C8F6-493A-9607-E6802C4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987BF-7250-401F-AEB8-D6C3918B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FDDC2-85F2-4F26-A40C-F782AAB2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5FB1D-40A5-46F1-8FD9-0AA8B58D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DDB0B-28B9-4DE1-894F-28FCF77C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FEEA0-BD2E-4456-B6E2-B5DF5B89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155C6-A2AC-413F-B3FC-7395C32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30C2-6BA4-4CD1-A3AF-31546A3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DF3A6-6341-461D-9AC0-0CEFCCB4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4FF-41B9-43A5-895F-02E39196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051D0-C0AE-4B62-A8ED-4BD73ED0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0C889-F615-4E09-8B1D-DAA5AD33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848DF-5072-47A9-AA25-B813DB65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FDA7B-3AF0-4DF2-98DA-0C072172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07804-F54C-449B-915E-73CE9B14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417E5-50BA-4C52-879C-CF82DAD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491C2-41D3-424A-9B2A-43C21014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D8801-E424-4CE1-AB6A-2A11B1D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1ABC2-9644-41C1-B44E-19D3DF8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95337-B202-4403-BA12-026874CF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DB141-9B83-45D3-9AD3-C5161938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0315E-34C2-433A-870C-0B3712B4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65827-230B-40BF-9499-0CE61887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559A1-0F66-486E-9919-77A1F0CA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68D0F-E9C9-4EEA-B34A-46313BFC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64005-CCCA-4353-B9B0-61A1D6C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04E10-0EB0-43ED-A457-BE035B6E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60AF-7229-4A23-BEA2-7D856782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CCA70-38BF-4740-8711-1704F486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388A4-E337-40FA-A1B7-7191BFBC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78A44-4D5C-4926-A14B-D7A2B5E1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93BAA-9D15-4192-AF93-B203A9D4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DD358-D2F0-420A-B390-0518394C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4177A-5759-43F2-A58F-6D0D49F4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0742-733E-48B8-B31F-029EFCFD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23F-D964-4BD2-AEFF-7DD7509F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09AA-5777-43F6-A2F4-EA8282F8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0811-693C-46BC-9DCB-64B0F0E8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3D7A-A3A7-4C1C-A157-4465A68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DCEB-1DA4-4591-BFB5-1EDD006F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7724-CB54-4160-BE3D-0C713E2F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7C0-2BD4-483A-AB41-1CAA2A76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5E19-7F49-452D-AA62-B2EAE773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C1D9-EDC0-4BFD-8D2A-9D43E7B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892F-8184-4C09-9DD1-0954A00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6A40-B401-4F3F-8378-829289CF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1B18-AD91-441E-B49B-23A78633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0907-1D96-4F7B-9A66-B0C37A28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8011-27A3-4C0F-A2E9-E35F7300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608C-4CDD-4904-9034-AE510873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48FA-4514-4D14-A9A4-3BB96E0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6DE5-FA02-4FAE-A748-D1C0CE4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C2D-0412-4FED-8D58-7E941652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C07A-6E52-4220-BCE8-41E0F9A4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3A6F-EEAF-4BB7-86CF-4F3DB828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1E8C-5252-4984-99CE-6D651731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D918-B1B4-4F69-A887-8231A20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3EFF-D993-46BB-B394-9771F29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FD70-917E-4AC6-95E7-8B984AA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B914-604C-4653-B2EE-8E954AD9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46A9-E2F8-4220-BCFC-8B60634C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2BE5-0C4A-4D25-85B3-DB0D4984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FD96E-552B-43C3-8FE3-AEFE9DC1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943-23BC-4524-ACDA-EB7A6DC3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75DB-12D0-4587-9E19-3C7C7F55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DDFB-D525-4E92-99EF-43818C86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9100-7419-48C2-A901-28FAB13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B131-6864-479A-90E9-77598CB9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1356-091D-49C1-A696-5F14AF25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077A-5251-4268-9C61-5FC4A7D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AC61-9A7A-4CD9-93CA-E7C708A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65F4-6E84-4084-A9E3-DA88C11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94B5-897F-4FB0-BBAD-9B1D422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A7A1-C2AE-4A1F-BD3A-D8935CAD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6F8-71A2-4AAE-99FF-CE668239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DDD2-D642-45AD-A7DF-68F7CC9E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F4B8-3C52-4C8B-8E83-6A73743B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5097E-7C5F-47D4-831E-06D8E052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92FA4-13BB-46E3-830E-548D0C1A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6A066-CAA3-4A19-88D5-4F5D1206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81D6-FB90-4C53-B987-572DCB6C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8055-0C0F-42A9-87F1-589A5649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B245-568C-4983-95B2-A1385B37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70DE9-FE60-4100-814E-9F1C3E3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7CC0-5818-4F4D-BCF9-8DCC7D6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7D0-5C21-4F68-B77B-E75F1468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106C-D792-43C8-85A9-39DAA383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DECC2-9143-4698-ADDE-CA67FB29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712A7-A593-42F2-B8DF-23FED647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EFB6-FB99-4675-B23B-A12CF347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FA5C-8324-4019-809A-B27B5923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EBC06-95BE-4009-B468-B2988005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700AB-46DF-45D8-B9C1-A618498A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0AB8C-E9F4-4580-A7FA-80A556C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BC3FB-FBBE-4C98-8042-E6B9F79A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EA171-2E22-4CD5-8FEE-5701FDE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08A-05D3-4ADC-8017-3C86673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2A146-F570-42F2-968E-9708D90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C5EA3-156F-42F4-B990-E8442DC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E003-322A-4057-AA52-103DAC5C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114E-9ED8-4EE7-8417-11A9CF06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F815-A28D-47F4-A4B6-22B5F431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85DD5-9841-4111-BB4C-0F3CB105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D7C1-86A5-4D04-BEB9-C424D634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7722-E53E-49B6-AAF0-26991E33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47186-CB05-41BA-B183-5E799647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F063-3811-4884-A7D6-96107001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340-8613-406D-859B-37C093C5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9927F-35CD-4615-954E-77544E0B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DCFD-9D6D-45B3-B1EE-3E73132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98C3-E074-4B9C-A109-80800DF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28081-3EDC-44B3-AC03-89BCD96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2B2C3-B656-4982-9C53-D3D34431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80C90-7551-41D7-9856-FF8EF337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7A47C-02AE-43E2-ABEB-BDD212F2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1231-BBB0-44ED-8152-2B95E48F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700D3-EB6B-41C5-8E54-2150CFE3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939C-FC44-4B8A-A497-26A5D56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AA2E-B691-42C5-9F99-75725E0C9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313E-FF7B-4541-AC07-45B5D8531581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0410-90C6-4CC3-8FD7-BA6518673AAB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93B-2F93-44A8-8013-F384A89F3B4F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06668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0034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9b30"/>
                </a:solidFill>
                <a:latin typeface="Arial"/>
              </a:rPr>
              <a:t>August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ProductCamp Austin Summer 2009.eps"/>
          <p:cNvPicPr/>
          <p:nvPr/>
        </p:nvPicPr>
        <p:blipFill>
          <a:blip r:embed="rId2"/>
          <a:stretch/>
        </p:blipFill>
        <p:spPr>
          <a:xfrm>
            <a:off x="1019160" y="1665360"/>
            <a:ext cx="7748640" cy="12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73EB-3A4C-43FC-B820-6C27E2668E87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B7A9-A0F0-4E31-BABA-019D38C85AC8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7032-157D-46E3-847C-4608222A2F86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9728-5C8C-48A0-9775-F703F93FA33D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017F-543C-4DAB-8D4B-3E20576C7917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26AE-11BC-4991-BD79-4D0CAF5E3CF6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1DAD-8494-4875-B331-755CB6BB6295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0560" y="299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f3d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60200" y="3733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f3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f3d9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59b30"/>
                </a:solidFill>
                <a:latin typeface="Arial"/>
              </a:rPr>
              <a:t>Thank You PCA Sponsor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ounded Rectangle 17"/>
          <p:cNvSpPr/>
          <p:nvPr/>
        </p:nvSpPr>
        <p:spPr>
          <a:xfrm>
            <a:off x="244440" y="1173240"/>
            <a:ext cx="8715240" cy="5368680"/>
          </a:xfrm>
          <a:prstGeom prst="roundRect">
            <a:avLst>
              <a:gd name="adj" fmla="val 16667"/>
            </a:avLst>
          </a:prstGeom>
          <a:solidFill>
            <a:srgbClr val="f3f8e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8" descr="aipmm-logo1_.eps"/>
          <p:cNvPicPr/>
          <p:nvPr/>
        </p:nvPicPr>
        <p:blipFill>
          <a:blip r:embed="rId1"/>
          <a:stretch/>
        </p:blipFill>
        <p:spPr>
          <a:xfrm>
            <a:off x="1320840" y="1220760"/>
            <a:ext cx="2197080" cy="961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1" descr="Austin Ventures.eps"/>
          <p:cNvPicPr/>
          <p:nvPr/>
        </p:nvPicPr>
        <p:blipFill>
          <a:blip r:embed="rId2"/>
          <a:stretch/>
        </p:blipFill>
        <p:spPr>
          <a:xfrm>
            <a:off x="4206960" y="2629080"/>
            <a:ext cx="4005000" cy="8856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2" descr="BuildASign Logo (55A605) for print.jpg"/>
          <p:cNvPicPr/>
          <p:nvPr/>
        </p:nvPicPr>
        <p:blipFill>
          <a:blip r:embed="rId3"/>
          <a:stretch/>
        </p:blipFill>
        <p:spPr>
          <a:xfrm>
            <a:off x="353880" y="2832120"/>
            <a:ext cx="3181320" cy="536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3" descr="Moot Corp-Orange Text.eps"/>
          <p:cNvPicPr/>
          <p:nvPr/>
        </p:nvPicPr>
        <p:blipFill>
          <a:blip r:embed="rId4"/>
          <a:stretch/>
        </p:blipFill>
        <p:spPr>
          <a:xfrm>
            <a:off x="5640480" y="1406520"/>
            <a:ext cx="2212920" cy="1209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4" descr="netqos.eps"/>
          <p:cNvPicPr/>
          <p:nvPr/>
        </p:nvPicPr>
        <p:blipFill>
          <a:blip r:embed="rId5"/>
          <a:stretch/>
        </p:blipFill>
        <p:spPr>
          <a:xfrm>
            <a:off x="6211800" y="3735360"/>
            <a:ext cx="2338560" cy="639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5" descr="PROFORMA.NEW.LOGO.1.9.09.eps"/>
          <p:cNvPicPr/>
          <p:nvPr/>
        </p:nvPicPr>
        <p:blipFill>
          <a:blip r:embed="rId6"/>
          <a:stretch/>
        </p:blipFill>
        <p:spPr>
          <a:xfrm>
            <a:off x="2736720" y="3718080"/>
            <a:ext cx="3008520" cy="1357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6" descr="sequent.jpg"/>
          <p:cNvPicPr/>
          <p:nvPr/>
        </p:nvPicPr>
        <p:blipFill>
          <a:blip r:embed="rId7"/>
          <a:stretch/>
        </p:blipFill>
        <p:spPr>
          <a:xfrm>
            <a:off x="5784840" y="4916520"/>
            <a:ext cx="2943360" cy="500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7" descr="solarwinds.eps"/>
          <p:cNvPicPr/>
          <p:nvPr/>
        </p:nvPicPr>
        <p:blipFill>
          <a:blip r:embed="rId8"/>
          <a:stretch/>
        </p:blipFill>
        <p:spPr>
          <a:xfrm>
            <a:off x="1521000" y="5124600"/>
            <a:ext cx="3420720" cy="1234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8" descr="troux logo 384c.eps"/>
          <p:cNvPicPr/>
          <p:nvPr/>
        </p:nvPicPr>
        <p:blipFill>
          <a:blip r:embed="rId9"/>
          <a:stretch/>
        </p:blipFill>
        <p:spPr>
          <a:xfrm>
            <a:off x="5040360" y="5684760"/>
            <a:ext cx="2141640" cy="80028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29"/>
          <p:cNvSpPr/>
          <p:nvPr/>
        </p:nvSpPr>
        <p:spPr>
          <a:xfrm flipV="1">
            <a:off x="492120" y="947520"/>
            <a:ext cx="8370720" cy="36360"/>
          </a:xfrm>
          <a:prstGeom prst="line">
            <a:avLst/>
          </a:prstGeom>
          <a:ln w="25560">
            <a:solidFill>
              <a:srgbClr val="e7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0" descr="ProductCamp Austin Summer 2009.eps"/>
          <p:cNvPicPr/>
          <p:nvPr/>
        </p:nvPicPr>
        <p:blipFill>
          <a:blip r:embed="rId10"/>
          <a:stretch/>
        </p:blipFill>
        <p:spPr>
          <a:xfrm>
            <a:off x="6364440" y="393840"/>
            <a:ext cx="23716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1:16:31Z</dcterms:created>
  <dc:creator>Paul Young</dc:creator>
  <dc:description/>
  <dc:language>en-US</dc:language>
  <cp:lastModifiedBy>Colleen Heubaum</cp:lastModifiedBy>
  <dcterms:modified xsi:type="dcterms:W3CDTF">2009-08-11T01:17:23Z</dcterms:modified>
  <cp:revision>3</cp:revision>
  <dc:subject/>
  <dc:title>Slide 1</dc:title>
</cp:coreProperties>
</file>