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9A5-8DAC-42F9-8FD6-C3A71F7B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81E-2339-462F-A266-3A8F83C6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316BD-B5BA-4ED0-83DA-529159D9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4371A-32EA-49D5-8783-F738BF86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7E319-FAB7-4AAB-8D4E-C4ECEFA5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7162E-06DD-4317-A92C-75263EF4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66DEF-6704-46EF-A66A-6217EA1A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F0C71-3D9E-4BE7-9A26-2B0D55C9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D3006-92D9-4F6A-9F96-FE108A12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8FC1A-A6E8-45A6-913D-34FD61A8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49F0D-41D2-4F4E-A9C1-2CEE9203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0FC46-0F26-4F0C-8BAF-32F23864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30B-FF0F-40A2-B03C-850A70F9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36F9A-447E-448C-BC9C-528A0CE3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8D325-3DC5-4C11-A70B-A876A2D7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65248-9D7C-42C3-9C03-FDCCE0FE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65FB8-370D-48B6-94BD-48AB8D59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A8AC1-611F-4E82-9337-612799E0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C77D5-01F1-4339-9DF3-6A545833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16C3F-DC74-457C-BCD1-2B1019DA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34785-D7EB-4B77-804D-1DFC60D1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A9BB9-F83F-4E53-9E0F-D1B091A0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93F92-3B7A-486B-A158-3EEE8118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131-9527-40A1-8475-4A591E23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C405E-3DB7-433D-82C3-29EDC705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BEB06-5063-4C85-8C80-5D6E593F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5A737-9FE8-4CDF-BAA5-DE7E3DDD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79AD1-FE5A-4A59-A0C9-A46830AA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D28A5-1A6E-4F5F-B5FD-E6AB8524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C9D78-073A-4A61-98CC-B9BF2EAF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DF8F3-2375-4A73-B911-DBD76F11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D93AF-3CCC-476E-9A9F-339B9A97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A6E66-9FC8-43EF-A420-9AC6107F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98D31-04F8-42AE-89DA-20BF1638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13C40-7ACC-4C00-B979-D4E9FF29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68193-9DD8-4D4B-85AE-1F784086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BC7AA-D364-4FAE-A2AE-863A8389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FE70F-AB12-43CF-83EB-41558918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54DB1-D45E-48BB-BA6D-6A39FD71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283B7-3BFD-477A-8DE1-F9FE4F95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E5F3C-FA09-4AC7-8CEC-54A910A8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91454-EBDF-4C6C-9641-CB34816B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EB752-9916-4715-9301-46ACA367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BBB2E-C206-4248-80DE-95FCA365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D213B-B88C-41AA-819D-EE16CAFD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A9C9D-1C59-467C-85E3-F4193449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D822B-A660-42FE-BE49-947562DE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B4BF8-5A91-44E4-B1F2-879FC7C6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97874-75B2-4058-9614-D69441CD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53AB-0A67-4DFF-9E41-7EC66CE3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9D6E-8F0E-4984-A589-03F3847F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5BDF-6A2C-4E70-AD7E-9C87895B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76D1-E56E-4CF1-8326-7E87A0B3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FD47-C534-44DA-A302-D4791E3B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910B-7514-4285-8778-BF049AB1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C15-CEAD-46C3-9AB2-7C767B54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A3FF-B843-4BA7-85A6-54CF51A8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85FC-A75F-450A-AEA2-03A84387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9B81-FC90-45B7-8912-5F44F144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E7AD-9595-4F4F-A594-C537A0EC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DF72-A81A-4308-ACD2-9EB04C6E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4AA3-206E-476F-AEC7-1819732E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6556-2BDD-4512-BE8E-64F36434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01760-AD50-4322-B00A-2C162DA0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36A6B-682D-47C1-B9B8-3AA072ED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8BB31-D2A6-4241-8A18-DC9084E3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671-94A4-4490-9E92-EB6AEC42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2DF44-3E03-437A-AEC2-4A82BE5B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E988F-7576-4E6F-9972-4E8D2ACD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CA63D-8852-4840-932A-84AEF0D4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7F969-770C-43A5-ABF8-AB33876D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851D1-3987-47E4-AED1-89B62101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4B899-9EC4-420D-83D3-2E10675E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0F8C6-12A3-4414-9F74-2356B233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D4DE7-1627-448F-AA5F-2BADB8A5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A4A58-53F3-47B8-B848-E9756461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33998-9D57-4C08-A3E7-747C7C39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A50-9FE3-45B1-8A63-41D8676A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EE140-F93F-48FD-8744-1C60CC84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E7889-06AF-4667-9881-9D661C73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46498-CE07-4064-A3D6-07A996BB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28B5B-6246-4CDB-97D7-5AFA0C67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A46E4-1B3C-419D-B32E-FD112D2D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8AF7E-3789-4F73-89AA-CA4ED99B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99B22-9BBF-40CD-BE82-CEFB7961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C9698-8F75-4577-9A66-C19D37BC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2DCC6-BD7B-4C6C-B51F-9180289D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CA048-51AC-4CC3-9AC0-E9BE01C2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0BF-DE2A-42BB-9A65-A2F33B6B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345D5-EB22-4231-A4B3-F50DA14D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C985A-53B2-44BA-926C-87962D8E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56EC9-2E4A-49FE-B12F-496C992A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C62C3-1337-4DB7-AFB3-D38B4AF8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B736D-522C-4861-B235-D3585F21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7BDB1-E855-473F-99F8-456D2393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C53F6-9D43-4978-B8D2-8D9D846D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AAFC9-16AE-4B4F-81FF-1E923A23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9F2D9-1051-443A-AC4B-BFBD07B8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84DDA-EB26-4590-8686-56955595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329-86D1-4164-8271-1ECF43F4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417A9-6527-40B0-8C0A-2B5F0B88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92F9E-A1C1-4DF3-9ACD-B1820A3D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DEC91-A1B3-4B8E-BBDE-86B48E6D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70654-69AE-47AD-8E0A-EEA020AD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8F734-8F7C-4B1A-A0F0-041BF202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61D9B-62C7-4DFD-A490-1281E4AF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7BEFE-4CB4-4767-A704-BB024F92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3F803-EAEB-4427-9088-3EED7281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95B32-0FA5-4231-B0A7-653AE88E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474D9-3DC0-4B69-B781-11D6D775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54F-5CCE-45E0-9598-03F039F3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EB1CB-3AF3-4AD2-BB65-3B486C54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D6E3E-3E68-418E-ABAE-36DFEB40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09D90-2C4B-48D6-8BD5-1B4B91A4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F91B1-FEAA-4FDD-AD63-15DD0F19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EBBD1-B1BC-444B-A5CF-976E6569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8D84C-6EAF-4049-A396-75EC6B15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E0721-EA2D-4C18-B45F-B55F362E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9D707-55D1-4E04-B6BA-FBA16043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EDA4A-482E-42AB-8FB5-FBFF4464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4384D-A9EE-42CF-B165-D23C8983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34CB-7915-4495-AC94-BF1B49AB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740AA-9CA1-4898-B6CA-A6F3196F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D1246-D990-4015-A503-2513BEEE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342B8-7EA0-479C-ABA4-6B531B3D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883A6-4E68-495D-9064-F5718AD6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5D85A-80AB-4F98-A2E4-68D77253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55C5F-79BD-4F01-BF1B-BB6D178A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50E4B-392B-494B-8381-35118D46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74F50-3F1F-4E43-9377-25FE11AA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03B24-7D65-4B11-98C5-71825642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9F8EB-1F38-476C-BA0B-DD9C674E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86E4-56B0-48C9-80B0-6EDD579FB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E24A-8925-49E2-93AC-58BCBA6DC0C5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6F23-398A-48C0-8C37-ED9562E53647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BDF0-9689-49DC-9650-01C38DD8AABA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106668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2003400" y="5791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9b30"/>
                </a:solidFill>
                <a:latin typeface="Arial"/>
              </a:rPr>
              <a:t>August 15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ProductCamp Austin Summer 2009.eps"/>
          <p:cNvPicPr/>
          <p:nvPr/>
        </p:nvPicPr>
        <p:blipFill>
          <a:blip r:embed="rId2"/>
          <a:stretch/>
        </p:blipFill>
        <p:spPr>
          <a:xfrm>
            <a:off x="1019160" y="1665360"/>
            <a:ext cx="7748640" cy="128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1B82-910B-4AD8-BE8F-0822D0C3A59C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3C3C-FDD6-4500-B59F-7B1A44802E3A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9336-F41D-4392-894B-6C94C58C7CFB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0873-B9B7-4A7D-A7CD-D9ECFB064832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5CFF-B5E2-4C71-84B0-3030022A63A5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D437-018B-45A0-9AAF-F060DB3563D4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f3d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2030-D1B4-48E4-8EDA-7EA0A58F5694}" type="slidenum">
              <a:rPr b="0" lang="en-US" sz="1400" spc="-1" strike="noStrike">
                <a:solidFill>
                  <a:srgbClr val="eaf3d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0560" y="299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f3d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060200" y="3733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f3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f3d9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3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59b30"/>
                </a:solidFill>
                <a:latin typeface="Arial"/>
              </a:rPr>
              <a:t>Thank You PCA Sponsors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ounded Rectangle 17"/>
          <p:cNvSpPr/>
          <p:nvPr/>
        </p:nvSpPr>
        <p:spPr>
          <a:xfrm>
            <a:off x="244440" y="1173240"/>
            <a:ext cx="8715240" cy="5368680"/>
          </a:xfrm>
          <a:prstGeom prst="roundRect">
            <a:avLst>
              <a:gd name="adj" fmla="val 16667"/>
            </a:avLst>
          </a:prstGeom>
          <a:solidFill>
            <a:srgbClr val="f3f8e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8" descr="aipmm-logo1_.eps"/>
          <p:cNvPicPr/>
          <p:nvPr/>
        </p:nvPicPr>
        <p:blipFill>
          <a:blip r:embed="rId1"/>
          <a:stretch/>
        </p:blipFill>
        <p:spPr>
          <a:xfrm>
            <a:off x="1320840" y="1220760"/>
            <a:ext cx="2197080" cy="9619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1" descr="Austin Ventures.eps"/>
          <p:cNvPicPr/>
          <p:nvPr/>
        </p:nvPicPr>
        <p:blipFill>
          <a:blip r:embed="rId2"/>
          <a:stretch/>
        </p:blipFill>
        <p:spPr>
          <a:xfrm>
            <a:off x="4206960" y="2629080"/>
            <a:ext cx="4005000" cy="8856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2" descr="BuildASign Logo (55A605) for print.jpg"/>
          <p:cNvPicPr/>
          <p:nvPr/>
        </p:nvPicPr>
        <p:blipFill>
          <a:blip r:embed="rId3"/>
          <a:stretch/>
        </p:blipFill>
        <p:spPr>
          <a:xfrm>
            <a:off x="353880" y="2832120"/>
            <a:ext cx="3181320" cy="5364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3" descr="Moot Corp-Orange Text.eps"/>
          <p:cNvPicPr/>
          <p:nvPr/>
        </p:nvPicPr>
        <p:blipFill>
          <a:blip r:embed="rId4"/>
          <a:stretch/>
        </p:blipFill>
        <p:spPr>
          <a:xfrm>
            <a:off x="5640480" y="1406520"/>
            <a:ext cx="2212920" cy="1209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4" descr="netqos.eps"/>
          <p:cNvPicPr/>
          <p:nvPr/>
        </p:nvPicPr>
        <p:blipFill>
          <a:blip r:embed="rId5"/>
          <a:stretch/>
        </p:blipFill>
        <p:spPr>
          <a:xfrm>
            <a:off x="6211800" y="3735360"/>
            <a:ext cx="2338560" cy="639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5" descr="PROFORMA.NEW.LOGO.1.9.09.eps"/>
          <p:cNvPicPr/>
          <p:nvPr/>
        </p:nvPicPr>
        <p:blipFill>
          <a:blip r:embed="rId6"/>
          <a:stretch/>
        </p:blipFill>
        <p:spPr>
          <a:xfrm>
            <a:off x="2736720" y="3718080"/>
            <a:ext cx="3008520" cy="13572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6" descr="sequent.jpg"/>
          <p:cNvPicPr/>
          <p:nvPr/>
        </p:nvPicPr>
        <p:blipFill>
          <a:blip r:embed="rId7"/>
          <a:stretch/>
        </p:blipFill>
        <p:spPr>
          <a:xfrm>
            <a:off x="5784840" y="4916520"/>
            <a:ext cx="2943360" cy="500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7" descr="solarwinds.eps"/>
          <p:cNvPicPr/>
          <p:nvPr/>
        </p:nvPicPr>
        <p:blipFill>
          <a:blip r:embed="rId8"/>
          <a:stretch/>
        </p:blipFill>
        <p:spPr>
          <a:xfrm>
            <a:off x="1521000" y="5124600"/>
            <a:ext cx="3420720" cy="12348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8" descr="troux logo 384c.eps"/>
          <p:cNvPicPr/>
          <p:nvPr/>
        </p:nvPicPr>
        <p:blipFill>
          <a:blip r:embed="rId9"/>
          <a:stretch/>
        </p:blipFill>
        <p:spPr>
          <a:xfrm>
            <a:off x="5040360" y="5684760"/>
            <a:ext cx="2141640" cy="800280"/>
          </a:xfrm>
          <a:prstGeom prst="rect">
            <a:avLst/>
          </a:prstGeom>
          <a:ln w="0">
            <a:noFill/>
          </a:ln>
        </p:spPr>
      </p:pic>
      <p:sp>
        <p:nvSpPr>
          <p:cNvPr id="507" name="Straight Connector 29"/>
          <p:cNvSpPr/>
          <p:nvPr/>
        </p:nvSpPr>
        <p:spPr>
          <a:xfrm flipV="1">
            <a:off x="492120" y="947520"/>
            <a:ext cx="8370720" cy="36360"/>
          </a:xfrm>
          <a:prstGeom prst="line">
            <a:avLst/>
          </a:prstGeom>
          <a:ln w="25560">
            <a:solidFill>
              <a:srgbClr val="e7a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0" descr="ProductCamp Austin Summer 2009.eps"/>
          <p:cNvPicPr/>
          <p:nvPr/>
        </p:nvPicPr>
        <p:blipFill>
          <a:blip r:embed="rId10"/>
          <a:stretch/>
        </p:blipFill>
        <p:spPr>
          <a:xfrm>
            <a:off x="6364440" y="393840"/>
            <a:ext cx="23716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1:16:31Z</dcterms:created>
  <dc:creator>Paul Young</dc:creator>
  <dc:description/>
  <dc:language>en-US</dc:language>
  <cp:lastModifiedBy>Colleen Heubaum</cp:lastModifiedBy>
  <dcterms:modified xsi:type="dcterms:W3CDTF">2009-08-11T01:17:23Z</dcterms:modified>
  <cp:revision>3</cp:revision>
  <dc:subject/>
  <dc:title>Slide 1</dc:title>
</cp:coreProperties>
</file>