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772-9B09-40CF-B5D0-42ACB33E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CDF-489F-4DC4-B9D9-AC9D5E0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43D63-929E-4250-A67A-4F0FC42D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D3D17-DC15-4037-AD24-8634D9EB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ABA38-B5DC-42DB-B6AA-5ECD56AF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ECE32-7C3F-46FF-BF8E-943DDB1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882F1-B711-4C82-8B96-4C71E0A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71ACA-7A41-45AC-80EE-F38E070B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F6B15-4E03-4A8E-9128-B4D9909A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2737A-0C91-4455-8FDC-F3652398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F8CE5-118A-4AEC-B95A-9C3B3ED1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52ABD-FC7E-4CBC-87C6-A65EBB71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917-0D1C-43F8-876D-87812716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05FD-9100-4D91-BD89-258C75E8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34202-9690-4A77-94FE-EB3ED74C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5A6BC-784F-46AE-9D07-DF997C75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A2D47-2F89-4116-A835-7AFB9AC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6F667-B1D7-4CA4-80C5-222ECA55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BD04F-47F2-4EE3-B567-7659C34E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3CE4D-CF56-437E-8999-2662BDD7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CD5B5-663E-4EDE-BA82-85ED27BC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077A9-B239-4FA4-B6C0-5E7B5B84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7E386-E322-41D1-AE3E-53DAC363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599-BDEB-48CA-A564-56C9CECD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5FF1E-5074-41E0-815B-CFBA681E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F6D6B-8F77-4C20-915A-7DC56B70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23E4C-1BDC-4F55-8B06-50D2F501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CF26A-C18E-4F07-8335-07699F2D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96E2E-0F12-44AB-8866-150A548C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27902-FC2D-4D86-AB44-9FD9A5F9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00CDE-FA82-4BE5-B0ED-8F65F589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C62A6-141C-4D21-9EEB-E09910AA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21DCB-10BE-4463-8B85-7C872596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515FD-0E12-4479-807F-46924AB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A1903-888D-40EE-875F-6BA194BD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C81ED-6020-437B-9FB0-7DCF61CA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282AF-AE84-47F8-AC99-AAA61994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6A8CA-C7D6-4C3C-BD5A-E162531D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924F8-C71D-4D60-9B98-13C1DCA1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D68F9-402A-419A-9675-03EA585A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92039-C39A-48E8-B0FB-1A467CE6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6A49A-715C-45B0-9596-F1109ADA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68C40-0980-42A1-B7C8-6A9710C4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BE0A8-72DE-4B4B-B0E1-0824F1F6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71860-4715-4354-BB53-11E5B0A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05188-3B3B-452B-B975-48DAE0B2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D6B53-695B-42CF-9582-F4C0A407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103A9-87D1-4FA6-9802-A7AD52A5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F192F-0210-4BDD-87FB-59B0D59F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4D3-DF7E-4B72-88FD-1F75FE2A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5248-1B36-4694-B26A-B61A4D88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B7AF-0825-4F20-AFE4-EAD7E0A7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9CDF-C6B4-4033-B31B-FE321913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B6E4-F784-4343-975F-EFFA4BD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50FD-1359-464E-8B2D-E8A9CD60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887-915A-416C-8E25-71B91E65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50AF-70A0-4124-B00B-6E4B48BF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7BA4-8DC7-437C-8F5B-BAC6547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1309-F524-49CE-97BA-C7157B0A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EEF4-4775-44A9-BFF9-7B86367F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A4AC-23F6-4539-8107-D6E72131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9BC-7E8B-438A-9397-6C967144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3A68-B01E-48A9-B687-1D138715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6C68-EF11-4A29-986A-A30F7B42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E588-A679-4234-A79D-AC90607D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A9A5-21DA-4423-8D8C-243315B3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EB4-E912-45D9-A841-82F9C34E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2110-409C-4B5B-BA22-B919A5C7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3F19-3A9F-4951-9EEB-0720C285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F1BE-A388-4407-B693-A1EF623D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788E-986E-4014-939D-981BF464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AA9D-EBC8-43AE-A3C3-F359BD26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21AB-C6B5-4738-BDC7-A46A4D9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BA81-BBC4-4837-99CE-9B4F23F1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AE67-7837-4D2E-8158-6F4E0A46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6451-F8E7-4731-AF59-BFA7C807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F1C6-B5B0-4070-AB4B-10F48D56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6BC-A6D0-41DA-A59F-7DC23E86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1832-B50B-41F0-894F-9204F242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D24C-E288-47E6-B6BE-C7D973D2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9706-847C-46CF-AA68-47F66315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7C63B-DE66-4AE3-9547-DFAE4908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EB7F-2F3E-4776-839C-C3CCFD48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BA23-035C-4350-8313-B7AD070F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2041-EC5B-45A8-9B0C-B7865B45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E74EF-83F7-40F9-BDA1-96D11EE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7299-F7EF-41E7-9292-21E6B904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93029-BD1B-41B4-8523-71D05251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D12-EC83-42B9-A64A-B0866CCF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0A6B-AABE-40DD-A634-37C1D885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B1934-3566-41B5-9F00-4632C6C0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ADCE-9024-4E01-A28E-433D385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135B-DA06-42C5-B494-07DD88D5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E5228-88FD-48AF-9B3C-7AE93767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6E370-C7BC-48B1-809D-7EFFB41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3C48-08F9-4110-8CFC-6EED205D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69B12-EDE4-4223-9A41-FC5582D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8A4B3-99EB-4D79-8DCF-F142C69A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FE32-E9B5-4139-BEA5-E2FA338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D28-A3F2-4750-96BF-0B7CC9DA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0F540-61C2-4EDE-B862-D03862ED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FBF5-B622-4B58-B8A0-53B02C22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FE646-7986-428D-B2B0-DB545E08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5353E-DCD9-4248-A6B6-1EEDB3A9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8E7DD-6A6A-48C6-A3B7-60C7434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610B-8256-460E-80F8-7CF1D40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D692B-EF91-4F46-BBDB-B7640BB0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386F2-D418-4C67-BE72-91498443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D2A86-335A-4680-BCF9-37FB11DC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E37A-5D71-4CE7-94C0-963230CC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166-B7CF-4455-A50B-443A48A6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4EE59-18A1-4D34-B329-387A89B9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CBA99-8B92-4951-AE6D-D42DBEB5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4305E-251C-411D-816A-AF795137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5F1BE-20FF-47E6-8628-7FECC787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4BDB1-865A-470A-8119-22179561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CB9A6-8D08-4845-B8AA-4CA68215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67181-6B49-4DBD-B5C0-0F7CB3F4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A6C97-D939-409F-B3DA-EDF982C1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0EFE-D82A-4D85-B807-EF5B23BA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D0D70-B32A-4C3B-9054-1F3B2503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34A-29E8-4290-8A78-E94DE87B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153E-A9B0-4C77-8A32-B1CCC646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648ED-9F9B-4AFA-88D4-A7155983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43ABD-BC47-4BE1-B066-3580BA70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BF8F-FA7B-4EB8-9F8C-D6B1DCD1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43A83-19D9-41A1-BCD4-3D86B4DB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0439D-BA02-4EE4-AD70-2F0E176E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A8F40-999F-40B5-85C4-AE422CE0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C4CD4-009E-4CBE-AFE7-FCE235A0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6EDE3-F423-4D79-B6DE-4AF0D866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F071-A60B-4FBA-A1E0-BBE77E11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CE6F-4353-4E7D-8E7E-117984F62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3ADB-7AB4-471B-BB81-9F8575299E6D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4104-4159-42FB-9827-92A58FDD31CA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9B2E-A113-4582-B601-CDC7AEEFEC80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06668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0034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9b30"/>
                </a:solidFill>
                <a:latin typeface="Arial"/>
              </a:rPr>
              <a:t>August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ProductCamp Austin Summer 2009.eps"/>
          <p:cNvPicPr/>
          <p:nvPr/>
        </p:nvPicPr>
        <p:blipFill>
          <a:blip r:embed="rId2"/>
          <a:stretch/>
        </p:blipFill>
        <p:spPr>
          <a:xfrm>
            <a:off x="1019160" y="1665360"/>
            <a:ext cx="7748640" cy="12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CA31-6245-4C12-9C9C-26DA6BCA3276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15A1-AFCB-4480-8046-AB14E60A4332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370B-0953-455F-BEC0-80D340AF106F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8B63-9A1B-4D81-BB00-1A14943706F9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CB91-485D-4332-A485-2C8C1E187533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A0FF-252E-4D7E-B019-D3AAE029D03F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DD3A-7B50-4114-A486-6FCAABEDAA6F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0560" y="299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f3d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60200" y="3733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f3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f3d9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59b30"/>
                </a:solidFill>
                <a:latin typeface="Arial"/>
              </a:rPr>
              <a:t>Thank You PCA Sponsor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ounded Rectangle 17"/>
          <p:cNvSpPr/>
          <p:nvPr/>
        </p:nvSpPr>
        <p:spPr>
          <a:xfrm>
            <a:off x="244440" y="1173240"/>
            <a:ext cx="8715240" cy="5368680"/>
          </a:xfrm>
          <a:prstGeom prst="roundRect">
            <a:avLst>
              <a:gd name="adj" fmla="val 16667"/>
            </a:avLst>
          </a:prstGeom>
          <a:solidFill>
            <a:srgbClr val="f3f8e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8" descr="aipmm-logo1_.eps"/>
          <p:cNvPicPr/>
          <p:nvPr/>
        </p:nvPicPr>
        <p:blipFill>
          <a:blip r:embed="rId1"/>
          <a:stretch/>
        </p:blipFill>
        <p:spPr>
          <a:xfrm>
            <a:off x="1320840" y="1220760"/>
            <a:ext cx="2197080" cy="961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1" descr="Austin Ventures.eps"/>
          <p:cNvPicPr/>
          <p:nvPr/>
        </p:nvPicPr>
        <p:blipFill>
          <a:blip r:embed="rId2"/>
          <a:stretch/>
        </p:blipFill>
        <p:spPr>
          <a:xfrm>
            <a:off x="4206960" y="2629080"/>
            <a:ext cx="4005000" cy="8856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2" descr="BuildASign Logo (55A605) for print.jpg"/>
          <p:cNvPicPr/>
          <p:nvPr/>
        </p:nvPicPr>
        <p:blipFill>
          <a:blip r:embed="rId3"/>
          <a:stretch/>
        </p:blipFill>
        <p:spPr>
          <a:xfrm>
            <a:off x="353880" y="2832120"/>
            <a:ext cx="3181320" cy="536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3" descr="Moot Corp-Orange Text.eps"/>
          <p:cNvPicPr/>
          <p:nvPr/>
        </p:nvPicPr>
        <p:blipFill>
          <a:blip r:embed="rId4"/>
          <a:stretch/>
        </p:blipFill>
        <p:spPr>
          <a:xfrm>
            <a:off x="5640480" y="1406520"/>
            <a:ext cx="2212920" cy="1209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4" descr="netqos.eps"/>
          <p:cNvPicPr/>
          <p:nvPr/>
        </p:nvPicPr>
        <p:blipFill>
          <a:blip r:embed="rId5"/>
          <a:stretch/>
        </p:blipFill>
        <p:spPr>
          <a:xfrm>
            <a:off x="6211800" y="3735360"/>
            <a:ext cx="2338560" cy="639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5" descr="PROFORMA.NEW.LOGO.1.9.09.eps"/>
          <p:cNvPicPr/>
          <p:nvPr/>
        </p:nvPicPr>
        <p:blipFill>
          <a:blip r:embed="rId6"/>
          <a:stretch/>
        </p:blipFill>
        <p:spPr>
          <a:xfrm>
            <a:off x="2736720" y="3718080"/>
            <a:ext cx="3008520" cy="1357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6" descr="sequent.jpg"/>
          <p:cNvPicPr/>
          <p:nvPr/>
        </p:nvPicPr>
        <p:blipFill>
          <a:blip r:embed="rId7"/>
          <a:stretch/>
        </p:blipFill>
        <p:spPr>
          <a:xfrm>
            <a:off x="5784840" y="4916520"/>
            <a:ext cx="2943360" cy="500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7" descr="solarwinds.eps"/>
          <p:cNvPicPr/>
          <p:nvPr/>
        </p:nvPicPr>
        <p:blipFill>
          <a:blip r:embed="rId8"/>
          <a:stretch/>
        </p:blipFill>
        <p:spPr>
          <a:xfrm>
            <a:off x="1521000" y="5124600"/>
            <a:ext cx="3420720" cy="1234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8" descr="troux logo 384c.eps"/>
          <p:cNvPicPr/>
          <p:nvPr/>
        </p:nvPicPr>
        <p:blipFill>
          <a:blip r:embed="rId9"/>
          <a:stretch/>
        </p:blipFill>
        <p:spPr>
          <a:xfrm>
            <a:off x="5040360" y="5684760"/>
            <a:ext cx="2141640" cy="800280"/>
          </a:xfrm>
          <a:prstGeom prst="rect">
            <a:avLst/>
          </a:prstGeom>
          <a:ln w="0">
            <a:noFill/>
          </a:ln>
        </p:spPr>
      </p:pic>
      <p:sp>
        <p:nvSpPr>
          <p:cNvPr id="507" name="Straight Connector 29"/>
          <p:cNvSpPr/>
          <p:nvPr/>
        </p:nvSpPr>
        <p:spPr>
          <a:xfrm flipV="1">
            <a:off x="492120" y="947520"/>
            <a:ext cx="8370720" cy="36360"/>
          </a:xfrm>
          <a:prstGeom prst="line">
            <a:avLst/>
          </a:prstGeom>
          <a:ln w="25560">
            <a:solidFill>
              <a:srgbClr val="e7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0" descr="ProductCamp Austin Summer 2009.eps"/>
          <p:cNvPicPr/>
          <p:nvPr/>
        </p:nvPicPr>
        <p:blipFill>
          <a:blip r:embed="rId10"/>
          <a:stretch/>
        </p:blipFill>
        <p:spPr>
          <a:xfrm>
            <a:off x="6364440" y="393840"/>
            <a:ext cx="23716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1:16:31Z</dcterms:created>
  <dc:creator>Paul Young</dc:creator>
  <dc:description/>
  <dc:language>en-US</dc:language>
  <cp:lastModifiedBy>Colleen Heubaum</cp:lastModifiedBy>
  <dcterms:modified xsi:type="dcterms:W3CDTF">2009-08-11T01:17:23Z</dcterms:modified>
  <cp:revision>3</cp:revision>
  <dc:subject/>
  <dc:title>Slide 1</dc:title>
</cp:coreProperties>
</file>